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5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</p:sldIdLst>
  <p:sldSz cx="9144000" cy="6858000"/>
  <p:notesSz cx="6846888" cy="9132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47200" cy="913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78280" y="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39400" y="684000"/>
            <a:ext cx="4565880" cy="34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78280" y="8674200"/>
            <a:ext cx="2967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DEEB548-B1D2-40B1-A3D5-F4815F34C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2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eak points do not trace out edges continuously in the actual algorithm.  The sweep line stops at discrete event points as will be shown la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ldImg"/>
          </p:nvPr>
        </p:nvSpPr>
        <p:spPr>
          <a:xfrm>
            <a:off x="1139760" y="684360"/>
            <a:ext cx="4565880" cy="3423960"/>
          </a:xfrm>
          <a:prstGeom prst="rect">
            <a:avLst/>
          </a:prstGeom>
          <a:ln w="0">
            <a:noFill/>
          </a:ln>
        </p:spPr>
      </p:sp>
      <p:sp>
        <p:nvSpPr>
          <p:cNvPr id="1884" name="PlaceHolder 2"/>
          <p:cNvSpPr>
            <a:spLocks noGrp="1"/>
          </p:cNvSpPr>
          <p:nvPr>
            <p:ph type="body"/>
          </p:nvPr>
        </p:nvSpPr>
        <p:spPr>
          <a:xfrm>
            <a:off x="912600" y="4336560"/>
            <a:ext cx="5019480" cy="41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ete sweep steps, rather than a continuous sw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3940-47C2-403B-8DA7-18596BC72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FF74-B34F-4B08-80A2-B6E71E30F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948A-93BD-4E13-B1A4-9EFCFADCC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EC4D-E953-4191-9B65-C688FDDB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65A7-743C-4EAE-8CA4-1FCB7D01A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4312-6129-4836-A156-3879AD7CA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706D-7407-49C7-8B85-4ED70B949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9951-CDFA-43C3-A245-25FCCB01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A31E-8CD9-4336-AC77-D7AE050BB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2C3F-3C21-4E1E-8216-985668149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5BE-84CB-4D71-95CC-0AA101626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04C9-FC34-4837-AE5E-33AB81F1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E215E-9FB7-49A4-B0F8-07894C627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cture 7: 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ed by Allen Mi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838 Computational Geome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ptember 27,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 rot="13500000">
            <a:off x="3098520" y="323820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201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3809880" y="3942360"/>
            <a:ext cx="1191960" cy="1086840"/>
            <a:chOff x="3809880" y="3942360"/>
            <a:chExt cx="1191960" cy="1086840"/>
          </a:xfrm>
        </p:grpSpPr>
        <p:sp>
          <p:nvSpPr>
            <p:cNvPr id="205" name=""/>
            <p:cNvSpPr/>
            <p:nvPr/>
          </p:nvSpPr>
          <p:spPr>
            <a:xfrm rot="5400000">
              <a:off x="4849560" y="449424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8040" y="394236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3809880" y="3962520"/>
              <a:ext cx="1067040" cy="1066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8" name=""/>
          <p:cNvSpPr/>
          <p:nvPr/>
        </p:nvSpPr>
        <p:spPr>
          <a:xfrm flipH="1">
            <a:off x="3352680" y="502920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9625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695520" y="2657520"/>
            <a:ext cx="5972760" cy="2885400"/>
            <a:chOff x="695520" y="2657520"/>
            <a:chExt cx="5972760" cy="2885400"/>
          </a:xfrm>
        </p:grpSpPr>
        <p:sp>
          <p:nvSpPr>
            <p:cNvPr id="211" name=""/>
            <p:cNvSpPr/>
            <p:nvPr/>
          </p:nvSpPr>
          <p:spPr>
            <a:xfrm>
              <a:off x="4480560" y="5083200"/>
              <a:ext cx="218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Un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5520" y="4956120"/>
              <a:ext cx="186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ounded C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3" name=""/>
            <p:cNvCxnSpPr/>
            <p:nvPr/>
          </p:nvCxnSpPr>
          <p:spPr>
            <a:xfrm flipV="1">
              <a:off x="2638080" y="4074840"/>
              <a:ext cx="1437480" cy="1046880"/>
            </a:xfrm>
            <a:prstGeom prst="curvedConnector5">
              <a:avLst>
                <a:gd name="adj1" fmla="val 49924"/>
                <a:gd name="adj2" fmla="val 49982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14" name=""/>
            <p:cNvSpPr/>
            <p:nvPr/>
          </p:nvSpPr>
          <p:spPr>
            <a:xfrm>
              <a:off x="1333440" y="2657520"/>
              <a:ext cx="124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g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5" name=""/>
            <p:cNvCxnSpPr>
              <a:stCxn id="214" idx="3"/>
            </p:cNvCxnSpPr>
            <p:nvPr/>
          </p:nvCxnSpPr>
          <p:spPr>
            <a:xfrm>
              <a:off x="2582640" y="2885760"/>
              <a:ext cx="1192320" cy="568800"/>
            </a:xfrm>
            <a:prstGeom prst="curvedConnector5">
              <a:avLst>
                <a:gd name="adj1" fmla="val 49924"/>
                <a:gd name="adj2" fmla="val 49968"/>
                <a:gd name="adj3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25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-504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 rot="13500000">
            <a:off x="5371920" y="3276360"/>
            <a:ext cx="144756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o wants to be a Millionair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5497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64160" y="39243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626080" y="40006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83280" y="293364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074000" y="331488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6522120" y="337248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02400" y="2018880"/>
            <a:ext cx="835200" cy="1034640"/>
            <a:chOff x="5702400" y="2018880"/>
            <a:chExt cx="835200" cy="1034640"/>
          </a:xfrm>
        </p:grpSpPr>
        <p:sp>
          <p:nvSpPr>
            <p:cNvPr id="244" name=""/>
            <p:cNvSpPr/>
            <p:nvPr/>
          </p:nvSpPr>
          <p:spPr>
            <a:xfrm flipH="1" flipV="1">
              <a:off x="5702400" y="2018880"/>
              <a:ext cx="380880" cy="914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21160" y="25938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 rot="5400000">
            <a:off x="7122960" y="45320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571080" y="39805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083280" y="2933640"/>
            <a:ext cx="106668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6082920" y="400068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626080" y="5067360"/>
            <a:ext cx="45720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49960" y="40006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124840" y="1984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9280" y="2467080"/>
            <a:ext cx="5785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f the following is true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-D Voronoi diagra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or more non-collinear sites a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fficient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necessary to create a bounde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and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e of ab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o bounded cell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0892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03640" y="46227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165560" y="4699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63204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29600" y="3638880"/>
            <a:ext cx="1993320" cy="1993320"/>
            <a:chOff x="4629600" y="3638880"/>
            <a:chExt cx="1993320" cy="1993320"/>
          </a:xfrm>
        </p:grpSpPr>
        <p:sp>
          <p:nvSpPr>
            <p:cNvPr id="260" name=""/>
            <p:cNvSpPr/>
            <p:nvPr/>
          </p:nvSpPr>
          <p:spPr>
            <a:xfrm>
              <a:off x="5613480" y="401328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>
              <a:off x="5061600" y="407088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629600" y="3638880"/>
              <a:ext cx="1993320" cy="1993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3" name=""/>
          <p:cNvSpPr/>
          <p:nvPr/>
        </p:nvSpPr>
        <p:spPr>
          <a:xfrm flipH="1" flipV="1">
            <a:off x="3873240" y="1816200"/>
            <a:ext cx="749160" cy="18158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0640" y="32925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4641480" y="3100680"/>
            <a:ext cx="2819160" cy="995760"/>
            <a:chOff x="4641480" y="3100680"/>
            <a:chExt cx="2819160" cy="995760"/>
          </a:xfrm>
        </p:grpSpPr>
        <p:sp>
          <p:nvSpPr>
            <p:cNvPr id="266" name=""/>
            <p:cNvSpPr/>
            <p:nvPr/>
          </p:nvSpPr>
          <p:spPr>
            <a:xfrm rot="18900000">
              <a:off x="5633280" y="3132000"/>
              <a:ext cx="152280" cy="1519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5709600" y="318204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641480" y="3639240"/>
              <a:ext cx="2819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3479760" y="2463840"/>
            <a:ext cx="2286000" cy="2286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14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23720" y="1312920"/>
            <a:ext cx="8431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on a Voronoi edge between sit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only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edge is a subset of  locus of points equidistant from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278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279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02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6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95680" y="5105520"/>
            <a:ext cx="76320" cy="759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038480" y="4648320"/>
            <a:ext cx="990720" cy="990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Voronoi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vertex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the largest empty circle centered 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uches at least 3 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oronoi vertex is an intersection of 3 more segments, each equidistant from a pair of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676840" y="392076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396040" y="4773600"/>
            <a:ext cx="6336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5396040" y="4378320"/>
            <a:ext cx="31104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5800680" y="4898520"/>
            <a:ext cx="504720" cy="4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V="1">
            <a:off x="6305400" y="484308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84280" y="3233520"/>
            <a:ext cx="4162320" cy="3378240"/>
            <a:chOff x="3284280" y="3233520"/>
            <a:chExt cx="4162320" cy="3378240"/>
          </a:xfrm>
        </p:grpSpPr>
        <p:grpSp>
          <p:nvGrpSpPr>
            <p:cNvPr id="340" name=""/>
            <p:cNvGrpSpPr/>
            <p:nvPr/>
          </p:nvGrpSpPr>
          <p:grpSpPr>
            <a:xfrm>
              <a:off x="3284280" y="3233520"/>
              <a:ext cx="4162320" cy="3378240"/>
              <a:chOff x="3284280" y="3233520"/>
              <a:chExt cx="4162320" cy="3378240"/>
            </a:xfrm>
          </p:grpSpPr>
          <p:sp>
            <p:nvSpPr>
              <p:cNvPr id="341" name=""/>
              <p:cNvSpPr/>
              <p:nvPr/>
            </p:nvSpPr>
            <p:spPr>
              <a:xfrm>
                <a:off x="3719160" y="363600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4837320" y="43304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flipH="1">
                <a:off x="3905640" y="470952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flipH="1">
                <a:off x="3284280" y="57196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 flipV="1">
                <a:off x="3905640" y="559368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V="1">
                <a:off x="4961880" y="4898520"/>
                <a:ext cx="49680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023800" y="470952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707440" y="437796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458680" y="489888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961880" y="559368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 flipH="1" flipV="1">
                <a:off x="5808240" y="53089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 flipV="1">
                <a:off x="5699520" y="408564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 flipV="1">
                <a:off x="4821840" y="391212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16160" y="584604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312960" y="4906800"/>
                <a:ext cx="1133640" cy="94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730480" y="4101840"/>
                <a:ext cx="8773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 flipV="1">
                <a:off x="6305400" y="4354560"/>
                <a:ext cx="294840" cy="48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V="1">
                <a:off x="6600240" y="3880440"/>
                <a:ext cx="82296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 flipV="1">
                <a:off x="5684040" y="323352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0" name=""/>
            <p:cNvSpPr/>
            <p:nvPr/>
          </p:nvSpPr>
          <p:spPr>
            <a:xfrm>
              <a:off x="6119280" y="5949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838080" y="4572000"/>
            <a:ext cx="22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16160" y="5603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895560" y="3902040"/>
            <a:ext cx="2739960" cy="1988640"/>
            <a:chOff x="3895560" y="3902040"/>
            <a:chExt cx="2739960" cy="1988640"/>
          </a:xfrm>
        </p:grpSpPr>
        <p:sp>
          <p:nvSpPr>
            <p:cNvPr id="364" name=""/>
            <p:cNvSpPr/>
            <p:nvPr/>
          </p:nvSpPr>
          <p:spPr>
            <a:xfrm>
              <a:off x="5780160" y="58172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946760" y="55540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895560" y="568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93200" y="46782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377680" y="474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432040" y="488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767560" y="52790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73360" y="48909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6269400" y="47977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668920" y="43585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692320" y="4074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644440" y="39020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795200" y="4299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563160" y="43189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838080" y="4952880"/>
            <a:ext cx="26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Voronoi vert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086440" y="591012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5273640" y="52783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77044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205680" y="5214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640560" y="47102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80040" y="4330800"/>
            <a:ext cx="18756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205680" y="39528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962600" y="502596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27720" y="452124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086440" y="4268880"/>
            <a:ext cx="1872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962600" y="388944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26600" y="6070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64640" y="4191120"/>
            <a:ext cx="1867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981680" y="467676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648320" y="4343400"/>
            <a:ext cx="761760" cy="7621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73200" y="1663200"/>
            <a:ext cx="7772400" cy="47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uition: Not all bisectors are Voronoi edge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5428800" y="3373560"/>
            <a:ext cx="55800" cy="172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143680" y="4154400"/>
            <a:ext cx="63360" cy="1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V="1">
            <a:off x="5143680" y="3792240"/>
            <a:ext cx="317160" cy="36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5556240" y="4269960"/>
            <a:ext cx="515880" cy="3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072120" y="4219200"/>
            <a:ext cx="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2984040" y="2743200"/>
            <a:ext cx="4254480" cy="3097080"/>
            <a:chOff x="2984040" y="2743200"/>
            <a:chExt cx="4254480" cy="3097080"/>
          </a:xfrm>
        </p:grpSpPr>
        <p:sp>
          <p:nvSpPr>
            <p:cNvPr id="404" name=""/>
            <p:cNvSpPr/>
            <p:nvPr/>
          </p:nvSpPr>
          <p:spPr>
            <a:xfrm>
              <a:off x="3428640" y="3111840"/>
              <a:ext cx="1143000" cy="63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71640" y="3748680"/>
              <a:ext cx="190440" cy="3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3618720" y="4096080"/>
              <a:ext cx="1143000" cy="92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2984040" y="5022360"/>
              <a:ext cx="63468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3619080" y="4906440"/>
              <a:ext cx="1079640" cy="11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4698720" y="4269240"/>
              <a:ext cx="507600" cy="63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62080" y="4096080"/>
              <a:ext cx="38088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460840" y="3792240"/>
              <a:ext cx="60300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206680" y="4269600"/>
              <a:ext cx="349200" cy="36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698720" y="4906800"/>
              <a:ext cx="873000" cy="23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 flipV="1">
              <a:off x="5563800" y="4645800"/>
              <a:ext cx="7560" cy="48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flipV="1">
              <a:off x="5452920" y="3524040"/>
              <a:ext cx="31680" cy="26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flipV="1">
              <a:off x="4555800" y="3365280"/>
              <a:ext cx="88092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571720" y="5138280"/>
              <a:ext cx="468000" cy="70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079680" y="4277160"/>
              <a:ext cx="1158840" cy="86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484600" y="3538800"/>
              <a:ext cx="896760" cy="23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6072120" y="3770280"/>
              <a:ext cx="301320" cy="448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6373440" y="3335760"/>
              <a:ext cx="841320" cy="42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5436720" y="2743200"/>
              <a:ext cx="4752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5881320" y="52308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144080" y="3860640"/>
            <a:ext cx="255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Voronoi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813200" y="515448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5048280" y="46926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526000" y="409716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956200" y="451800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400800" y="4054320"/>
            <a:ext cx="190440" cy="17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799240" y="373536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942160" y="343044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86480" y="4343400"/>
            <a:ext cx="190440" cy="1746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41880" y="3881520"/>
            <a:ext cx="190440" cy="172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900680" y="3678120"/>
            <a:ext cx="190440" cy="1731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729320" y="3301920"/>
            <a:ext cx="190440" cy="17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646160" y="530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70280" y="3124080"/>
            <a:ext cx="2146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: site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3657600" y="2666880"/>
            <a:ext cx="3200400" cy="289584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of: (Easy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3623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640480" y="38862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895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276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8098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1911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1055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705720" y="41911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324480" y="3581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31880" y="5334120"/>
            <a:ext cx="627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llinear sites </a:t>
            </a: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= n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uler’s Formula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nected, planar graphs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+ f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vert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is the number of 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the number of fa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423040" y="41655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9720" y="5003640"/>
            <a:ext cx="15228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5270400" y="538488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7" name=""/>
          <p:cNvCxnSpPr>
            <a:stCxn id="454" idx="3"/>
            <a:endCxn id="456" idx="0"/>
          </p:cNvCxnSpPr>
          <p:nvPr/>
        </p:nvCxnSpPr>
        <p:spPr>
          <a:xfrm flipH="1">
            <a:off x="5346000" y="4295520"/>
            <a:ext cx="99000" cy="108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8" name=""/>
          <p:cNvCxnSpPr>
            <a:stCxn id="456" idx="6"/>
            <a:endCxn id="455" idx="3"/>
          </p:cNvCxnSpPr>
          <p:nvPr/>
        </p:nvCxnSpPr>
        <p:spPr>
          <a:xfrm flipV="1">
            <a:off x="5422680" y="5133600"/>
            <a:ext cx="1089720" cy="327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59" name=""/>
          <p:cNvCxnSpPr>
            <a:stCxn id="455" idx="1"/>
            <a:endCxn id="454" idx="6"/>
          </p:cNvCxnSpPr>
          <p:nvPr/>
        </p:nvCxnSpPr>
        <p:spPr>
          <a:xfrm flipH="1" flipV="1">
            <a:off x="5574960" y="4241520"/>
            <a:ext cx="937440" cy="7848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grpSp>
        <p:nvGrpSpPr>
          <p:cNvPr id="460" name=""/>
          <p:cNvGrpSpPr/>
          <p:nvPr/>
        </p:nvGrpSpPr>
        <p:grpSpPr>
          <a:xfrm>
            <a:off x="5552640" y="4187520"/>
            <a:ext cx="1775160" cy="892080"/>
            <a:chOff x="5552640" y="4187520"/>
            <a:chExt cx="1775160" cy="892080"/>
          </a:xfrm>
        </p:grpSpPr>
        <p:sp>
          <p:nvSpPr>
            <p:cNvPr id="461" name=""/>
            <p:cNvSpPr/>
            <p:nvPr/>
          </p:nvSpPr>
          <p:spPr>
            <a:xfrm>
              <a:off x="7175520" y="4317840"/>
              <a:ext cx="15228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2" name=""/>
            <p:cNvCxnSpPr>
              <a:stCxn id="454" idx="7"/>
              <a:endCxn id="461" idx="2"/>
            </p:cNvCxnSpPr>
            <p:nvPr/>
          </p:nvCxnSpPr>
          <p:spPr>
            <a:xfrm>
              <a:off x="5552640" y="4187520"/>
              <a:ext cx="1623240" cy="207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463" name=""/>
            <p:cNvCxnSpPr>
              <a:stCxn id="455" idx="6"/>
              <a:endCxn id="461" idx="3"/>
            </p:cNvCxnSpPr>
            <p:nvPr/>
          </p:nvCxnSpPr>
          <p:spPr>
            <a:xfrm flipV="1">
              <a:off x="6642000" y="4447440"/>
              <a:ext cx="556560" cy="632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464" name=""/>
          <p:cNvGrpSpPr/>
          <p:nvPr/>
        </p:nvGrpSpPr>
        <p:grpSpPr>
          <a:xfrm>
            <a:off x="6620040" y="5133600"/>
            <a:ext cx="860400" cy="708480"/>
            <a:chOff x="6620040" y="5133600"/>
            <a:chExt cx="860400" cy="708480"/>
          </a:xfrm>
        </p:grpSpPr>
        <p:sp>
          <p:nvSpPr>
            <p:cNvPr id="465" name=""/>
            <p:cNvSpPr/>
            <p:nvPr/>
          </p:nvSpPr>
          <p:spPr>
            <a:xfrm>
              <a:off x="7327800" y="5689440"/>
              <a:ext cx="152640" cy="152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55" idx="5"/>
              <a:endCxn id="465" idx="1"/>
            </p:cNvCxnSpPr>
            <p:nvPr/>
          </p:nvCxnSpPr>
          <p:spPr>
            <a:xfrm>
              <a:off x="6620040" y="5133600"/>
              <a:ext cx="730800" cy="578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st Office:  What is the area of servic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80880" y="2743200"/>
            <a:ext cx="3805200" cy="2606040"/>
            <a:chOff x="380880" y="2743200"/>
            <a:chExt cx="3805200" cy="2606040"/>
          </a:xfrm>
        </p:grpSpPr>
        <p:grpSp>
          <p:nvGrpSpPr>
            <p:cNvPr id="52" name=""/>
            <p:cNvGrpSpPr/>
            <p:nvPr/>
          </p:nvGrpSpPr>
          <p:grpSpPr>
            <a:xfrm>
              <a:off x="3795840" y="4889520"/>
              <a:ext cx="390240" cy="459720"/>
              <a:chOff x="3795840" y="4889520"/>
              <a:chExt cx="390240" cy="459720"/>
            </a:xfrm>
          </p:grpSpPr>
          <p:sp>
            <p:nvSpPr>
              <p:cNvPr id="53" name=""/>
              <p:cNvSpPr/>
              <p:nvPr/>
            </p:nvSpPr>
            <p:spPr>
              <a:xfrm>
                <a:off x="4043520" y="4900680"/>
                <a:ext cx="142560" cy="142920"/>
              </a:xfrm>
              <a:prstGeom prst="ellipse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3795840" y="4889520"/>
                <a:ext cx="33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380880" y="2743200"/>
              <a:ext cx="2657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free po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382320" y="1728360"/>
            <a:ext cx="7313760" cy="4077000"/>
            <a:chOff x="382320" y="1728360"/>
            <a:chExt cx="7313760" cy="4077000"/>
          </a:xfrm>
        </p:grpSpPr>
        <p:sp>
          <p:nvSpPr>
            <p:cNvPr id="57" name=""/>
            <p:cNvSpPr/>
            <p:nvPr/>
          </p:nvSpPr>
          <p:spPr>
            <a:xfrm flipH="1" flipV="1">
              <a:off x="5524200" y="2557080"/>
              <a:ext cx="66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382320" y="1728360"/>
              <a:ext cx="7313760" cy="4077000"/>
              <a:chOff x="382320" y="1728360"/>
              <a:chExt cx="7313760" cy="4077000"/>
            </a:xfrm>
          </p:grpSpPr>
          <p:sp>
            <p:nvSpPr>
              <p:cNvPr id="59" name=""/>
              <p:cNvSpPr/>
              <p:nvPr/>
            </p:nvSpPr>
            <p:spPr>
              <a:xfrm>
                <a:off x="5181480" y="3586320"/>
                <a:ext cx="763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5181480" y="3109680"/>
                <a:ext cx="381240" cy="47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676840" y="3738600"/>
                <a:ext cx="619200" cy="49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6296040" y="3672000"/>
                <a:ext cx="0" cy="8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82320" y="1728360"/>
                <a:ext cx="7313760" cy="4077000"/>
                <a:chOff x="382320" y="1728360"/>
                <a:chExt cx="7313760" cy="4077000"/>
              </a:xfrm>
            </p:grpSpPr>
            <p:grpSp>
              <p:nvGrpSpPr>
                <p:cNvPr id="64" name=""/>
                <p:cNvGrpSpPr/>
                <p:nvPr/>
              </p:nvGrpSpPr>
              <p:grpSpPr>
                <a:xfrm>
                  <a:off x="2590920" y="1728360"/>
                  <a:ext cx="5105160" cy="4077000"/>
                  <a:chOff x="2590920" y="1728360"/>
                  <a:chExt cx="5105160" cy="4077000"/>
                </a:xfrm>
              </p:grpSpPr>
              <p:grpSp>
                <p:nvGrpSpPr>
                  <p:cNvPr id="65" name=""/>
                  <p:cNvGrpSpPr/>
                  <p:nvPr/>
                </p:nvGrpSpPr>
                <p:grpSpPr>
                  <a:xfrm>
                    <a:off x="2590920" y="1728360"/>
                    <a:ext cx="5105160" cy="4077000"/>
                    <a:chOff x="2590920" y="1728360"/>
                    <a:chExt cx="5105160" cy="4077000"/>
                  </a:xfrm>
                </p:grpSpPr>
                <p:sp>
                  <p:nvSpPr>
                    <p:cNvPr id="66" name=""/>
                    <p:cNvSpPr/>
                    <p:nvPr/>
                  </p:nvSpPr>
                  <p:spPr>
                    <a:xfrm>
                      <a:off x="3124080" y="2214360"/>
                      <a:ext cx="1371600" cy="8380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" name=""/>
                    <p:cNvSpPr/>
                    <p:nvPr/>
                  </p:nvSpPr>
                  <p:spPr>
                    <a:xfrm>
                      <a:off x="4495680" y="3052440"/>
                      <a:ext cx="228600" cy="4572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" name=""/>
                    <p:cNvSpPr/>
                    <p:nvPr/>
                  </p:nvSpPr>
                  <p:spPr>
                    <a:xfrm flipH="1">
                      <a:off x="3352680" y="3509640"/>
                      <a:ext cx="1371600" cy="1219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" name=""/>
                    <p:cNvSpPr/>
                    <p:nvPr/>
                  </p:nvSpPr>
                  <p:spPr>
                    <a:xfrm flipH="1">
                      <a:off x="2590920" y="4728960"/>
                      <a:ext cx="76176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" name=""/>
                    <p:cNvSpPr/>
                    <p:nvPr/>
                  </p:nvSpPr>
                  <p:spPr>
                    <a:xfrm flipV="1">
                      <a:off x="3352680" y="4576320"/>
                      <a:ext cx="1295640" cy="152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" name=""/>
                    <p:cNvSpPr/>
                    <p:nvPr/>
                  </p:nvSpPr>
                  <p:spPr>
                    <a:xfrm flipV="1">
                      <a:off x="4648320" y="3737880"/>
                      <a:ext cx="609480" cy="838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" name=""/>
                    <p:cNvSpPr/>
                    <p:nvPr/>
                  </p:nvSpPr>
                  <p:spPr>
                    <a:xfrm>
                      <a:off x="4724280" y="3509640"/>
                      <a:ext cx="457200" cy="763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" name=""/>
                    <p:cNvSpPr/>
                    <p:nvPr/>
                  </p:nvSpPr>
                  <p:spPr>
                    <a:xfrm>
                      <a:off x="5562720" y="3109680"/>
                      <a:ext cx="72396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" name=""/>
                    <p:cNvSpPr/>
                    <p:nvPr/>
                  </p:nvSpPr>
                  <p:spPr>
                    <a:xfrm>
                      <a:off x="5257800" y="3738240"/>
                      <a:ext cx="419040" cy="486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4648320" y="4576680"/>
                      <a:ext cx="1047600" cy="3045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" name=""/>
                    <p:cNvSpPr/>
                    <p:nvPr/>
                  </p:nvSpPr>
                  <p:spPr>
                    <a:xfrm flipH="1" flipV="1">
                      <a:off x="5686560" y="4233240"/>
                      <a:ext cx="9360" cy="63828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7" name=""/>
                    <p:cNvSpPr/>
                    <p:nvPr/>
                  </p:nvSpPr>
                  <p:spPr>
                    <a:xfrm flipV="1">
                      <a:off x="5553000" y="2756880"/>
                      <a:ext cx="38160" cy="3524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8" name=""/>
                    <p:cNvSpPr/>
                    <p:nvPr/>
                  </p:nvSpPr>
                  <p:spPr>
                    <a:xfrm flipV="1">
                      <a:off x="4476600" y="2547360"/>
                      <a:ext cx="1057320" cy="48564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9" name=""/>
                    <p:cNvSpPr/>
                    <p:nvPr/>
                  </p:nvSpPr>
                  <p:spPr>
                    <a:xfrm>
                      <a:off x="5695920" y="4881240"/>
                      <a:ext cx="561960" cy="9241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0" name=""/>
                    <p:cNvSpPr/>
                    <p:nvPr/>
                  </p:nvSpPr>
                  <p:spPr>
                    <a:xfrm>
                      <a:off x="6305400" y="3747960"/>
                      <a:ext cx="1390680" cy="1143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" name=""/>
                    <p:cNvSpPr/>
                    <p:nvPr/>
                  </p:nvSpPr>
                  <p:spPr>
                    <a:xfrm>
                      <a:off x="5591160" y="2776320"/>
                      <a:ext cx="1076400" cy="30492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2" name=""/>
                    <p:cNvSpPr/>
                    <p:nvPr/>
                  </p:nvSpPr>
                  <p:spPr>
                    <a:xfrm flipV="1">
                      <a:off x="6296040" y="3081240"/>
                      <a:ext cx="361800" cy="5904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3" name=""/>
                    <p:cNvSpPr/>
                    <p:nvPr/>
                  </p:nvSpPr>
                  <p:spPr>
                    <a:xfrm flipV="1">
                      <a:off x="6657840" y="2509200"/>
                      <a:ext cx="1009800" cy="5619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4" name=""/>
                    <p:cNvSpPr/>
                    <p:nvPr/>
                  </p:nvSpPr>
                  <p:spPr>
                    <a:xfrm flipV="1">
                      <a:off x="5533920" y="1728360"/>
                      <a:ext cx="57240" cy="81900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85" name=""/>
                  <p:cNvSpPr/>
                  <p:nvPr/>
                </p:nvSpPr>
                <p:spPr>
                  <a:xfrm>
                    <a:off x="6067080" y="5003640"/>
                    <a:ext cx="3164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e</a:t>
                    </a: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"/>
                <p:cNvSpPr/>
                <p:nvPr/>
              </p:nvSpPr>
              <p:spPr>
                <a:xfrm>
                  <a:off x="382320" y="3200400"/>
                  <a:ext cx="25596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spcBef>
                      <a:spcPts val="7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e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Times New Roman"/>
                    </a:rPr>
                    <a:t> : Voronoi edge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87" name=""/>
          <p:cNvGrpSpPr/>
          <p:nvPr/>
        </p:nvGrpSpPr>
        <p:grpSpPr>
          <a:xfrm>
            <a:off x="380880" y="2535120"/>
            <a:ext cx="6319800" cy="2514240"/>
            <a:chOff x="380880" y="2535120"/>
            <a:chExt cx="6319800" cy="2514240"/>
          </a:xfrm>
        </p:grpSpPr>
        <p:grpSp>
          <p:nvGrpSpPr>
            <p:cNvPr id="88" name=""/>
            <p:cNvGrpSpPr/>
            <p:nvPr/>
          </p:nvGrpSpPr>
          <p:grpSpPr>
            <a:xfrm>
              <a:off x="3340080" y="2535120"/>
              <a:ext cx="3360600" cy="2514240"/>
              <a:chOff x="3340080" y="2535120"/>
              <a:chExt cx="3360600" cy="2514240"/>
            </a:xfrm>
          </p:grpSpPr>
          <p:sp>
            <p:nvSpPr>
              <p:cNvPr id="89" name=""/>
              <p:cNvSpPr/>
              <p:nvPr/>
            </p:nvSpPr>
            <p:spPr>
              <a:xfrm>
                <a:off x="5695560" y="4589640"/>
                <a:ext cx="3164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v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" name=""/>
              <p:cNvGrpSpPr/>
              <p:nvPr/>
            </p:nvGrpSpPr>
            <p:grpSpPr>
              <a:xfrm>
                <a:off x="3340080" y="2535120"/>
                <a:ext cx="3360600" cy="2400480"/>
                <a:chOff x="3340080" y="2535120"/>
                <a:chExt cx="3360600" cy="24004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5651640" y="48466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4629240" y="4529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3340080" y="46911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4686480" y="34718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5157720" y="35575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5224320" y="372096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635800" y="4197240"/>
                  <a:ext cx="8856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6256440" y="372888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"/>
                <p:cNvSpPr/>
                <p:nvPr/>
              </p:nvSpPr>
              <p:spPr>
                <a:xfrm>
                  <a:off x="6251400" y="3616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5514840" y="3086280"/>
                  <a:ext cx="88920" cy="885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840" bIns="15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5543640" y="27432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5484960" y="253512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4443480" y="301464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6611760" y="3038400"/>
                  <a:ext cx="88920" cy="8892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05" name=""/>
            <p:cNvSpPr/>
            <p:nvPr/>
          </p:nvSpPr>
          <p:spPr>
            <a:xfrm>
              <a:off x="380880" y="3657600"/>
              <a:ext cx="2819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Voronoi vertex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308520" y="2286000"/>
            <a:ext cx="6625800" cy="3375720"/>
            <a:chOff x="308520" y="2286000"/>
            <a:chExt cx="6625800" cy="3375720"/>
          </a:xfrm>
        </p:grpSpPr>
        <p:grpSp>
          <p:nvGrpSpPr>
            <p:cNvPr id="107" name=""/>
            <p:cNvGrpSpPr/>
            <p:nvPr/>
          </p:nvGrpSpPr>
          <p:grpSpPr>
            <a:xfrm>
              <a:off x="4114800" y="2519280"/>
              <a:ext cx="2819520" cy="3142440"/>
              <a:chOff x="4114800" y="2519280"/>
              <a:chExt cx="2819520" cy="3142440"/>
            </a:xfrm>
          </p:grpSpPr>
          <p:sp>
            <p:nvSpPr>
              <p:cNvPr id="108" name=""/>
              <p:cNvSpPr/>
              <p:nvPr/>
            </p:nvSpPr>
            <p:spPr>
              <a:xfrm>
                <a:off x="4800600" y="495792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029200" y="4195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63868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172200" y="4119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705720" y="35100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019920" y="30528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172200" y="25956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48320" y="38908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114800" y="328140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800600" y="29764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648320" y="2519280"/>
                <a:ext cx="228600" cy="2286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00080" y="5151600"/>
                <a:ext cx="38160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i="1" lang="en-US" sz="2400" spc="-1" strike="noStrike" baseline="-25000">
                    <a:solidFill>
                      <a:srgbClr val="000000"/>
                    </a:solidFill>
                    <a:latin typeface="Times New Roman"/>
                  </a:rPr>
                  <a:t>i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308520" y="2286000"/>
              <a:ext cx="21466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: site poin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im: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,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5 and 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of: (General Ca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Voronoi graphs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 = 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+ n =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H="1" flipV="1">
            <a:off x="7567200" y="4374720"/>
            <a:ext cx="4140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53360" y="4994280"/>
            <a:ext cx="4752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353360" y="4707000"/>
            <a:ext cx="23796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7661160" y="5086080"/>
            <a:ext cx="385920" cy="29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8047080" y="5045040"/>
            <a:ext cx="1440" cy="5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70680" y="4167360"/>
            <a:ext cx="85572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926400" y="4672080"/>
            <a:ext cx="14112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6213600" y="4948200"/>
            <a:ext cx="853920" cy="73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 flipH="1">
            <a:off x="5738400" y="5683320"/>
            <a:ext cx="47484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6213600" y="5591160"/>
            <a:ext cx="80784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021440" y="5086440"/>
            <a:ext cx="37944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067520" y="4948200"/>
            <a:ext cx="285840" cy="4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591320" y="4707000"/>
            <a:ext cx="451080" cy="338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400880" y="5086440"/>
            <a:ext cx="26028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021440" y="5591160"/>
            <a:ext cx="65268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flipH="1" flipV="1">
            <a:off x="7667640" y="5384520"/>
            <a:ext cx="648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 flipV="1">
            <a:off x="7585200" y="4493880"/>
            <a:ext cx="2376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6913440" y="4368600"/>
            <a:ext cx="65880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74120" y="5773680"/>
            <a:ext cx="291960" cy="45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8053560" y="5091120"/>
            <a:ext cx="866520" cy="689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08960" y="4506840"/>
            <a:ext cx="669960" cy="18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8047080" y="4689360"/>
            <a:ext cx="22536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8272440" y="4344840"/>
            <a:ext cx="63036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7572240" y="3875040"/>
            <a:ext cx="36720" cy="49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905240" y="58467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105680" y="578628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248600" y="53276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62804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961400" y="528156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92960" y="4915080"/>
            <a:ext cx="1429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866000" y="463860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961400" y="436392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012080" y="5143680"/>
            <a:ext cx="141120" cy="137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678720" y="4776840"/>
            <a:ext cx="142920" cy="138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105680" y="4594320"/>
            <a:ext cx="142920" cy="136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2080" y="4317840"/>
            <a:ext cx="141120" cy="136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982920" y="5902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3124080" y="4965840"/>
            <a:ext cx="114480" cy="110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674440" y="494028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3209040" y="3634920"/>
            <a:ext cx="5711040" cy="2941920"/>
            <a:chOff x="3209040" y="3634920"/>
            <a:chExt cx="5711040" cy="2941920"/>
          </a:xfrm>
        </p:grpSpPr>
        <p:cxnSp>
          <p:nvCxnSpPr>
            <p:cNvPr id="509" name=""/>
            <p:cNvCxnSpPr>
              <a:stCxn id="474" idx="0"/>
              <a:endCxn id="506" idx="7"/>
            </p:cNvCxnSpPr>
            <p:nvPr/>
          </p:nvCxnSpPr>
          <p:spPr>
            <a:xfrm rot="5400000">
              <a:off x="4240080" y="3135960"/>
              <a:ext cx="799200" cy="2861280"/>
            </a:xfrm>
            <a:prstGeom prst="curvedConnector5">
              <a:avLst>
                <a:gd name="adj1" fmla="val 49977"/>
                <a:gd name="adj2" fmla="val 49993"/>
                <a:gd name="adj3" fmla="val 49977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0" name=""/>
            <p:cNvCxnSpPr>
              <a:stCxn id="477" idx="0"/>
              <a:endCxn id="506" idx="5"/>
            </p:cNvCxnSpPr>
            <p:nvPr/>
          </p:nvCxnSpPr>
          <p:spPr>
            <a:xfrm flipV="1" rot="16200000">
              <a:off x="4087080" y="4210560"/>
              <a:ext cx="775080" cy="2531160"/>
            </a:xfrm>
            <a:prstGeom prst="curvedConnector5">
              <a:avLst>
                <a:gd name="adj1" fmla="val -14544"/>
                <a:gd name="adj2" fmla="val 50000"/>
                <a:gd name="adj3" fmla="val -14544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1" name=""/>
            <p:cNvCxnSpPr>
              <a:stCxn id="492" idx="0"/>
              <a:endCxn id="506" idx="7"/>
            </p:cNvCxnSpPr>
            <p:nvPr/>
          </p:nvCxnSpPr>
          <p:spPr>
            <a:xfrm rot="5400000">
              <a:off x="4863240" y="2221560"/>
              <a:ext cx="1089720" cy="4398120"/>
            </a:xfrm>
            <a:prstGeom prst="curvedConnector5">
              <a:avLst>
                <a:gd name="adj1" fmla="val -4230"/>
                <a:gd name="adj2" fmla="val 50000"/>
                <a:gd name="adj3" fmla="val -423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2" name=""/>
            <p:cNvCxnSpPr>
              <a:stCxn id="487" idx="0"/>
              <a:endCxn id="506" idx="5"/>
            </p:cNvCxnSpPr>
            <p:nvPr/>
          </p:nvCxnSpPr>
          <p:spPr>
            <a:xfrm flipV="1" rot="16200000">
              <a:off x="5017320" y="3280680"/>
              <a:ext cx="1140480" cy="4756680"/>
            </a:xfrm>
            <a:prstGeom prst="curvedConnector5">
              <a:avLst>
                <a:gd name="adj1" fmla="val -20050"/>
                <a:gd name="adj2" fmla="val 50000"/>
                <a:gd name="adj3" fmla="val -20050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3" name=""/>
            <p:cNvCxnSpPr>
              <a:stCxn id="488" idx="0"/>
              <a:endCxn id="506" idx="5"/>
            </p:cNvCxnSpPr>
            <p:nvPr/>
          </p:nvCxnSpPr>
          <p:spPr>
            <a:xfrm flipV="1" rot="16200000">
              <a:off x="5719320" y="2578680"/>
              <a:ext cx="691200" cy="5711040"/>
            </a:xfrm>
            <a:prstGeom prst="curvedConnector5">
              <a:avLst>
                <a:gd name="adj1" fmla="val -115372"/>
                <a:gd name="adj2" fmla="val 49996"/>
                <a:gd name="adj3" fmla="val -115372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  <p:cxnSp>
          <p:nvCxnSpPr>
            <p:cNvPr id="514" name=""/>
            <p:cNvCxnSpPr>
              <a:stCxn id="491" idx="0"/>
              <a:endCxn id="506" idx="7"/>
            </p:cNvCxnSpPr>
            <p:nvPr/>
          </p:nvCxnSpPr>
          <p:spPr>
            <a:xfrm rot="5400000">
              <a:off x="5744520" y="1809720"/>
              <a:ext cx="621000" cy="5691600"/>
            </a:xfrm>
            <a:prstGeom prst="curvedConnector5">
              <a:avLst>
                <a:gd name="adj1" fmla="val -114385"/>
                <a:gd name="adj2" fmla="val 49996"/>
                <a:gd name="adj3" fmla="val -114385"/>
              </a:avLst>
            </a:prstGeom>
            <a:ln w="9360">
              <a:solidFill>
                <a:srgbClr val="000000"/>
              </a:solidFill>
              <a:prstDash val="dash"/>
              <a:miter/>
            </a:ln>
          </p:spPr>
        </p:cxnSp>
      </p:grpSp>
      <p:sp>
        <p:nvSpPr>
          <p:cNvPr id="515" name=""/>
          <p:cNvSpPr/>
          <p:nvPr/>
        </p:nvSpPr>
        <p:spPr>
          <a:xfrm>
            <a:off x="183240" y="3174840"/>
            <a:ext cx="3592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pply Euler’s Formula, 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arize” the Voronoi diagram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y connecting half lines to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 extra vertex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883560" y="46227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505640" y="43178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81960" y="44704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43800" y="46735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315200" y="49402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7010280" y="4915080"/>
            <a:ext cx="88920" cy="88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6172200" y="563868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6985080" y="556272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7607160" y="53211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7607160" y="5727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001000" y="50166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988400" y="49784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217000" y="4635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31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diagrams have linear complexity {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|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)}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14240" y="1506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over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gether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get, f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1" name=""/>
              <p:cNvSpPr txBox="1"/>
              <p:nvPr/>
            </p:nvSpPr>
            <p:spPr>
              <a:xfrm>
                <a:off x="3060720" y="1913040"/>
                <a:ext cx="27306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v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Vor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deg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2" name=""/>
              <p:cNvSpPr txBox="1"/>
              <p:nvPr/>
            </p:nvSpPr>
            <p:spPr>
              <a:xfrm>
                <a:off x="2357280" y="2900520"/>
                <a:ext cx="2068560" cy="50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v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Vor</m:t>
                    </m:r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3" name=""/>
              <p:cNvSpPr txBox="1"/>
              <p:nvPr/>
            </p:nvSpPr>
            <p:spPr>
              <a:xfrm>
                <a:off x="4714920" y="2876400"/>
                <a:ext cx="171432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g</m:t>
                    </m:r>
                    <m:r>
                      <m:t xml:space="preserve">(</m:t>
                    </m:r>
                    <m:r>
                      <m:t xml:space="preserve">v</m:t>
                    </m:r>
                    <m:r>
                      <m:t xml:space="preserve">)</m:t>
                    </m:r>
                    <m:r>
                      <m:t xml:space="preserve">≥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4" name=""/>
              <p:cNvSpPr txBox="1"/>
              <p:nvPr/>
            </p:nvSpPr>
            <p:spPr>
              <a:xfrm>
                <a:off x="3090960" y="3733920"/>
                <a:ext cx="2773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≥</m:t>
                    </m:r>
                    <m:r>
                      <m:t xml:space="preserve">3</m:t>
                    </m:r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5" name=""/>
              <p:cNvSpPr txBox="1"/>
              <p:nvPr/>
            </p:nvSpPr>
            <p:spPr>
              <a:xfrm>
                <a:off x="3003480" y="4724280"/>
                <a:ext cx="3157560" cy="52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|</m:t>
                    </m:r>
                    <m:r>
                      <m:t xml:space="preserve">v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6" name=""/>
              <p:cNvSpPr txBox="1"/>
              <p:nvPr/>
            </p:nvSpPr>
            <p:spPr>
              <a:xfrm>
                <a:off x="3511440" y="5564160"/>
                <a:ext cx="196560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|</m:t>
                        </m:r>
                        <m:r>
                          <m:t xml:space="preserve">v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2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  <m:e>
                        <m:r>
                          <m:t xml:space="preserve">|</m:t>
                        </m:r>
                        <m:r>
                          <m:t xml:space="preserve">e</m:t>
                        </m:r>
                        <m:r>
                          <m:t xml:space="preserve">|</m:t>
                        </m:r>
                        <m:r>
                          <m:t xml:space="preserve">≤</m:t>
                        </m:r>
                        <m:r>
                          <m:t xml:space="preserve">3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4648320" y="2527200"/>
            <a:ext cx="3593880" cy="3797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 rot="19800000">
            <a:off x="3711240" y="3373200"/>
            <a:ext cx="2492280" cy="2846160"/>
          </a:xfrm>
          <a:prstGeom prst="triangle">
            <a:avLst>
              <a:gd name="adj" fmla="val 68838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n a half plane intersection algorithm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 rot="13500000">
            <a:off x="3911400" y="3631680"/>
            <a:ext cx="1447920" cy="1447560"/>
          </a:xfrm>
          <a:prstGeom prst="rtTriangl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0892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003640" y="428004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4165560" y="43560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622760" y="2527200"/>
            <a:ext cx="0" cy="38102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613480" y="367020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061600" y="372816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 rot="5400000">
            <a:off x="5662440" y="488772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5110560" y="433620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911760" y="2590920"/>
            <a:ext cx="3098520" cy="30733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3504960" y="2768760"/>
            <a:ext cx="3733560" cy="374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664320" y="2340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06160" y="3914640"/>
            <a:ext cx="29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 for each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67640" y="4753080"/>
            <a:ext cx="243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lf plane intersectio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eep line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constructed as horizontal line sweeps the set of sites from top to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construc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intains portion of diagram which cannot change due to sites below sweep line, keeping track of incremental changes for each site (and Voronoi vertex) it “sweep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the invariant we are looking f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62040" y="5265720"/>
            <a:ext cx="7813800" cy="143280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ntain a representation of the locus of poin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at are closer to some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bov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sweep line than to the line itself (and thus to any site below the line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 flipH="1" flipV="1">
            <a:off x="4497120" y="2823840"/>
            <a:ext cx="4428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268880" y="3541680"/>
            <a:ext cx="52200" cy="10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4268880" y="3208320"/>
            <a:ext cx="252360" cy="33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4597560" y="3647880"/>
            <a:ext cx="409320" cy="34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5006880" y="3600360"/>
            <a:ext cx="0" cy="60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2556000" y="2244600"/>
            <a:ext cx="3377880" cy="2846160"/>
            <a:chOff x="2556000" y="2244600"/>
            <a:chExt cx="3377880" cy="2846160"/>
          </a:xfrm>
        </p:grpSpPr>
        <p:grpSp>
          <p:nvGrpSpPr>
            <p:cNvPr id="587" name=""/>
            <p:cNvGrpSpPr/>
            <p:nvPr/>
          </p:nvGrpSpPr>
          <p:grpSpPr>
            <a:xfrm>
              <a:off x="2556000" y="2244600"/>
              <a:ext cx="3377880" cy="2846160"/>
              <a:chOff x="2556000" y="2244600"/>
              <a:chExt cx="3377880" cy="2846160"/>
            </a:xfrm>
          </p:grpSpPr>
          <p:sp>
            <p:nvSpPr>
              <p:cNvPr id="588" name=""/>
              <p:cNvSpPr/>
              <p:nvPr/>
            </p:nvSpPr>
            <p:spPr>
              <a:xfrm>
                <a:off x="2908800" y="2583360"/>
                <a:ext cx="907560" cy="58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3816360" y="3168720"/>
                <a:ext cx="151200" cy="318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3059640" y="3488040"/>
                <a:ext cx="907560" cy="85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2556000" y="4339440"/>
                <a:ext cx="50400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>
                <a:off x="3060000" y="4232880"/>
                <a:ext cx="8571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917160" y="3647520"/>
                <a:ext cx="403200" cy="58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3967560" y="3488040"/>
                <a:ext cx="30240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4522320" y="3208680"/>
                <a:ext cx="47880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4320720" y="3647520"/>
                <a:ext cx="277200" cy="33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3917160" y="4233240"/>
                <a:ext cx="69300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 flipV="1">
                <a:off x="4604040" y="3993480"/>
                <a:ext cx="6120" cy="445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V="1">
                <a:off x="4515840" y="2962080"/>
                <a:ext cx="25200" cy="245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V="1">
                <a:off x="3803760" y="2815920"/>
                <a:ext cx="699480" cy="33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4610520" y="4445640"/>
                <a:ext cx="371520" cy="64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013720" y="3654360"/>
                <a:ext cx="920160" cy="79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4541400" y="2975760"/>
                <a:ext cx="71208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V="1">
                <a:off x="5007600" y="3188520"/>
                <a:ext cx="239400" cy="41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V="1">
                <a:off x="5247000" y="2789640"/>
                <a:ext cx="668160" cy="39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V="1">
                <a:off x="4503240" y="2244600"/>
                <a:ext cx="37800" cy="57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4855680" y="45334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4611240" y="424332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3051000" y="2808360"/>
            <a:ext cx="2224080" cy="1674360"/>
            <a:chOff x="3051000" y="2808360"/>
            <a:chExt cx="2224080" cy="1674360"/>
          </a:xfrm>
        </p:grpSpPr>
        <p:sp>
          <p:nvSpPr>
            <p:cNvPr id="610" name=""/>
            <p:cNvSpPr/>
            <p:nvPr/>
          </p:nvSpPr>
          <p:spPr>
            <a:xfrm>
              <a:off x="4581000" y="4420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904200" y="41994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051000" y="4312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3942000" y="346176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254120" y="352152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298040" y="36356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570560" y="3967920"/>
              <a:ext cx="5832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981320" y="36410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978080" y="35625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490280" y="3192840"/>
              <a:ext cx="58680" cy="61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09360" y="295344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470480" y="2808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81080" y="314280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216400" y="3159360"/>
              <a:ext cx="58680" cy="61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" bIns="-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4017960" y="4500720"/>
            <a:ext cx="15228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170240" y="396720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57344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925880" y="391464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80120" y="348948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824360" y="3168720"/>
            <a:ext cx="15228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4925880" y="2851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917880" y="3754440"/>
            <a:ext cx="15084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564000" y="3328920"/>
            <a:ext cx="15084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017960" y="3116160"/>
            <a:ext cx="15228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917880" y="2797200"/>
            <a:ext cx="15084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106600" y="258768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916280" y="3672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48440" y="32162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12880" y="37162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235840" y="2271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500800" y="2336760"/>
            <a:ext cx="1159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120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714240" y="110484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ch points are closer to a site above the sweep line than to the sweep line itself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04920" y="43639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68840" y="364644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612800" y="411804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 flipV="1">
            <a:off x="4763880" y="290808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85840" y="247176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3641760" y="3444840"/>
            <a:ext cx="258840" cy="53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4768920" y="3139920"/>
            <a:ext cx="63360" cy="85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3621240" y="2895120"/>
            <a:ext cx="1128600" cy="52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838760" y="3124080"/>
            <a:ext cx="137304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4756320" y="191088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369040" y="3444840"/>
            <a:ext cx="26172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5543640" y="291636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3209760" y="3713040"/>
            <a:ext cx="258840" cy="266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987720" y="335772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3816360" y="282564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847120" y="2476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7248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3160" y="2162160"/>
            <a:ext cx="198720" cy="2412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20040" y="5211720"/>
            <a:ext cx="69822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et of parabolic arcs form a beach-line that bound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locus of all such poi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5529240" y="3355920"/>
            <a:ext cx="3004200" cy="992160"/>
            <a:chOff x="5529240" y="3355920"/>
            <a:chExt cx="3004200" cy="992160"/>
          </a:xfrm>
        </p:grpSpPr>
        <p:sp>
          <p:nvSpPr>
            <p:cNvPr id="663" name=""/>
            <p:cNvSpPr/>
            <p:nvPr/>
          </p:nvSpPr>
          <p:spPr>
            <a:xfrm>
              <a:off x="5529240" y="3608280"/>
              <a:ext cx="392040" cy="23184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35320" y="3868920"/>
              <a:ext cx="0" cy="4791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5790960" y="3579840"/>
              <a:ext cx="971280" cy="1443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5979600" y="3782880"/>
              <a:ext cx="812520" cy="376560"/>
            </a:xfrm>
            <a:prstGeom prst="line">
              <a:avLst/>
            </a:prstGeom>
            <a:ln w="93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775200" y="3355920"/>
              <a:ext cx="1758240" cy="459720"/>
            </a:xfrm>
            <a:prstGeom prst="rect">
              <a:avLst/>
            </a:prstGeom>
            <a:noFill/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8" name=""/>
          <p:cNvGrpSpPr/>
          <p:nvPr/>
        </p:nvGrpSpPr>
        <p:grpSpPr>
          <a:xfrm>
            <a:off x="2463840" y="2317680"/>
            <a:ext cx="4549680" cy="1873440"/>
            <a:chOff x="2463840" y="2317680"/>
            <a:chExt cx="4549680" cy="1873440"/>
          </a:xfrm>
        </p:grpSpPr>
        <p:sp>
          <p:nvSpPr>
            <p:cNvPr id="669" name=""/>
            <p:cNvSpPr/>
            <p:nvPr/>
          </p:nvSpPr>
          <p:spPr>
            <a:xfrm>
              <a:off x="2463840" y="3403440"/>
              <a:ext cx="1585800" cy="787680"/>
            </a:xfrm>
            <a:custGeom>
              <a:avLst/>
              <a:gdLst/>
              <a:ahLst/>
              <a:rect l="l" t="t" r="r" b="b"/>
              <a:pathLst>
                <a:path w="969" h="652">
                  <a:moveTo>
                    <a:pt x="0" y="0"/>
                  </a:moveTo>
                  <a:cubicBezTo>
                    <a:pt x="198" y="323"/>
                    <a:pt x="397" y="646"/>
                    <a:pt x="558" y="649"/>
                  </a:cubicBezTo>
                  <a:cubicBezTo>
                    <a:pt x="719" y="652"/>
                    <a:pt x="844" y="335"/>
                    <a:pt x="969" y="1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35360" y="2317680"/>
              <a:ext cx="3278160" cy="1797120"/>
            </a:xfrm>
            <a:custGeom>
              <a:avLst/>
              <a:gdLst/>
              <a:ahLst/>
              <a:rect l="l" t="t" r="r" b="b"/>
              <a:pathLst>
                <a:path w="1490" h="1132">
                  <a:moveTo>
                    <a:pt x="1490" y="155"/>
                  </a:moveTo>
                  <a:cubicBezTo>
                    <a:pt x="1257" y="643"/>
                    <a:pt x="1025" y="1132"/>
                    <a:pt x="777" y="1106"/>
                  </a:cubicBezTo>
                  <a:cubicBezTo>
                    <a:pt x="529" y="1080"/>
                    <a:pt x="129" y="18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048120" y="3057480"/>
              <a:ext cx="2263680" cy="887400"/>
            </a:xfrm>
            <a:custGeom>
              <a:avLst/>
              <a:gdLst/>
              <a:ahLst/>
              <a:rect l="l" t="t" r="r" b="b"/>
              <a:pathLst>
                <a:path w="814" h="633">
                  <a:moveTo>
                    <a:pt x="0" y="9"/>
                  </a:moveTo>
                  <a:cubicBezTo>
                    <a:pt x="142" y="321"/>
                    <a:pt x="285" y="633"/>
                    <a:pt x="421" y="631"/>
                  </a:cubicBezTo>
                  <a:cubicBezTo>
                    <a:pt x="557" y="629"/>
                    <a:pt x="685" y="314"/>
                    <a:pt x="81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2489040" y="3235320"/>
            <a:ext cx="4067280" cy="1003320"/>
            <a:chOff x="2489040" y="3235320"/>
            <a:chExt cx="4067280" cy="1003320"/>
          </a:xfrm>
        </p:grpSpPr>
        <p:sp>
          <p:nvSpPr>
            <p:cNvPr id="673" name=""/>
            <p:cNvSpPr/>
            <p:nvPr/>
          </p:nvSpPr>
          <p:spPr>
            <a:xfrm>
              <a:off x="4800600" y="3235320"/>
              <a:ext cx="1755720" cy="909720"/>
            </a:xfrm>
            <a:custGeom>
              <a:avLst/>
              <a:gdLst/>
              <a:ahLst/>
              <a:rect l="l" t="t" r="r" b="b"/>
              <a:pathLst>
                <a:path w="1125" h="799">
                  <a:moveTo>
                    <a:pt x="0" y="348"/>
                  </a:moveTo>
                  <a:cubicBezTo>
                    <a:pt x="162" y="573"/>
                    <a:pt x="325" y="799"/>
                    <a:pt x="512" y="741"/>
                  </a:cubicBezTo>
                  <a:cubicBezTo>
                    <a:pt x="699" y="683"/>
                    <a:pt x="912" y="341"/>
                    <a:pt x="1125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489040" y="3473280"/>
              <a:ext cx="1327320" cy="765360"/>
            </a:xfrm>
            <a:custGeom>
              <a:avLst/>
              <a:gdLst/>
              <a:ahLst/>
              <a:rect l="l" t="t" r="r" b="b"/>
              <a:pathLst>
                <a:path w="856" h="514">
                  <a:moveTo>
                    <a:pt x="0" y="0"/>
                  </a:moveTo>
                  <a:cubicBezTo>
                    <a:pt x="204" y="219"/>
                    <a:pt x="409" y="438"/>
                    <a:pt x="552" y="476"/>
                  </a:cubicBezTo>
                  <a:cubicBezTo>
                    <a:pt x="695" y="514"/>
                    <a:pt x="775" y="371"/>
                    <a:pt x="856" y="228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16360" y="3638520"/>
              <a:ext cx="977760" cy="326880"/>
            </a:xfrm>
            <a:custGeom>
              <a:avLst/>
              <a:gdLst/>
              <a:ahLst/>
              <a:rect l="l" t="t" r="r" b="b"/>
              <a:pathLst>
                <a:path w="616" h="206">
                  <a:moveTo>
                    <a:pt x="0" y="108"/>
                  </a:moveTo>
                  <a:cubicBezTo>
                    <a:pt x="114" y="157"/>
                    <a:pt x="229" y="206"/>
                    <a:pt x="332" y="188"/>
                  </a:cubicBezTo>
                  <a:cubicBezTo>
                    <a:pt x="435" y="170"/>
                    <a:pt x="525" y="85"/>
                    <a:pt x="616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tion of Voronoi Diagr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597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 a set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tinct points (sites) in the plan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oronoi diagram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the subdivision of the plane into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ells, one for each site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es in the cell corresponding to a sit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f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&l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uclidean_dist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j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, for each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, j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714240" y="106200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eak points trace out Voronoi edg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4013640" y="3149640"/>
            <a:ext cx="1758240" cy="2123640"/>
            <a:chOff x="4013640" y="3149640"/>
            <a:chExt cx="1758240" cy="2123640"/>
          </a:xfrm>
        </p:grpSpPr>
        <p:sp>
          <p:nvSpPr>
            <p:cNvPr id="679" name=""/>
            <p:cNvSpPr/>
            <p:nvPr/>
          </p:nvSpPr>
          <p:spPr>
            <a:xfrm>
              <a:off x="4092480" y="3149640"/>
              <a:ext cx="711360" cy="1443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>
              <a:off x="4761000" y="3251160"/>
              <a:ext cx="753840" cy="428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789440" y="3294000"/>
              <a:ext cx="0" cy="7257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flipH="1" flipV="1">
              <a:off x="4454640" y="3324240"/>
              <a:ext cx="247680" cy="152424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4789440" y="4194360"/>
              <a:ext cx="0" cy="53640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4905360" y="3366720"/>
              <a:ext cx="318960" cy="1451160"/>
            </a:xfrm>
            <a:prstGeom prst="line">
              <a:avLst/>
            </a:prstGeom>
            <a:ln w="255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13640" y="4813560"/>
              <a:ext cx="1758240" cy="459720"/>
            </a:xfrm>
            <a:prstGeom prst="rect">
              <a:avLst/>
            </a:prstGeom>
            <a:noFill/>
            <a:ln w="255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Equi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2104920" y="40356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8840" y="33177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612800" y="37893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3641760" y="3116160"/>
            <a:ext cx="258840" cy="532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4768920" y="2811240"/>
            <a:ext cx="63360" cy="850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800600" y="2906640"/>
            <a:ext cx="1755720" cy="9097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489040" y="3144960"/>
            <a:ext cx="1327320" cy="76500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816360" y="3309840"/>
            <a:ext cx="977760" cy="32724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cs flatten out as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104920" y="490536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68840" y="41878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612800" y="465948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3641760" y="3116160"/>
            <a:ext cx="561960" cy="115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722840" y="2811600"/>
            <a:ext cx="109440" cy="14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756320" y="3719520"/>
            <a:ext cx="1755720" cy="35892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082960" y="3695760"/>
            <a:ext cx="1950840" cy="54756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048200" y="3875040"/>
            <a:ext cx="701640" cy="93600"/>
          </a:xfrm>
          <a:custGeom>
            <a:avLst/>
            <a:gdLst/>
            <a:ahLst/>
            <a:rect l="l" t="t" r="r" b="b"/>
            <a:pathLst>
              <a:path w="616" h="206">
                <a:moveTo>
                  <a:pt x="0" y="108"/>
                </a:moveTo>
                <a:cubicBezTo>
                  <a:pt x="114" y="157"/>
                  <a:pt x="229" y="206"/>
                  <a:pt x="332" y="188"/>
                </a:cubicBezTo>
                <a:cubicBezTo>
                  <a:pt x="435" y="170"/>
                  <a:pt x="525" y="85"/>
                  <a:pt x="616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ually, the middle arc disapp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092320" y="669132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4756320" y="1582200"/>
            <a:ext cx="83880" cy="97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689360" y="4805280"/>
            <a:ext cx="2251080" cy="2062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2054160" y="4867200"/>
            <a:ext cx="2465280" cy="1573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527720" y="4884840"/>
            <a:ext cx="145800" cy="42840"/>
          </a:xfrm>
          <a:custGeom>
            <a:avLst/>
            <a:gdLst/>
            <a:ahLst/>
            <a:rect l="l" t="t" r="r" b="b"/>
            <a:pathLst>
              <a:path w="92" h="16">
                <a:moveTo>
                  <a:pt x="0" y="16"/>
                </a:moveTo>
                <a:cubicBezTo>
                  <a:pt x="18" y="13"/>
                  <a:pt x="35" y="6"/>
                  <a:pt x="52" y="4"/>
                </a:cubicBezTo>
                <a:cubicBezTo>
                  <a:pt x="65" y="2"/>
                  <a:pt x="92" y="0"/>
                  <a:pt x="92" y="0"/>
                </a:cubicBezTo>
              </a:path>
            </a:pathLst>
          </a:custGeom>
          <a:noFill/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/>
          </p:nvPr>
        </p:nvSpPr>
        <p:spPr>
          <a:xfrm>
            <a:off x="714240" y="9619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detected a circle that is empty (contains no sites) and touches 3 or more si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 type="title"/>
          </p:nvPr>
        </p:nvSpPr>
        <p:spPr>
          <a:xfrm>
            <a:off x="6858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092320" y="6777000"/>
            <a:ext cx="56451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289800" y="549756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733400" y="596916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 flipV="1">
            <a:off x="4763880" y="2579400"/>
            <a:ext cx="74520" cy="22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085840" y="2143080"/>
            <a:ext cx="1555920" cy="9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3641760" y="3116160"/>
            <a:ext cx="984240" cy="20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4657680" y="2811240"/>
            <a:ext cx="174600" cy="23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3621240" y="2567160"/>
            <a:ext cx="1128600" cy="528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4838760" y="2795760"/>
            <a:ext cx="1373040" cy="39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 flipV="1">
            <a:off x="4756320" y="1842840"/>
            <a:ext cx="61920" cy="71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369040" y="3116160"/>
            <a:ext cx="261720" cy="268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5543640" y="2587680"/>
            <a:ext cx="258840" cy="264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209760" y="3384720"/>
            <a:ext cx="258840" cy="266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987720" y="3029040"/>
            <a:ext cx="260280" cy="268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816360" y="2496960"/>
            <a:ext cx="258840" cy="265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847120" y="21477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072480" y="17701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6383160" y="1833480"/>
            <a:ext cx="198720" cy="241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660920" y="5111640"/>
            <a:ext cx="2251080" cy="13356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212920" y="511668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2786040" y="3070080"/>
            <a:ext cx="3702240" cy="370224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4644720" y="5181120"/>
            <a:ext cx="4070520" cy="1089360"/>
            <a:chOff x="4644720" y="5181120"/>
            <a:chExt cx="4070520" cy="1089360"/>
          </a:xfrm>
        </p:grpSpPr>
        <p:sp>
          <p:nvSpPr>
            <p:cNvPr id="778" name=""/>
            <p:cNvSpPr/>
            <p:nvPr/>
          </p:nvSpPr>
          <p:spPr>
            <a:xfrm>
              <a:off x="6135840" y="574992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4644720" y="5181120"/>
              <a:ext cx="1422360" cy="75420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ach Lin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edges are traced by the break points as the sweep line moves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ergence of a new break point(s) (from formation of a new arc or a fusion of two existing break points) identifies a new 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vertices are identified when two break points meet (fuse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imation of an old arc identifies new 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47640" y="166320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l: a simple data structure that allows an algorithm to traverse a Voronoi diagram’s segments, cells and verti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 flipH="1" flipV="1">
            <a:off x="4521240" y="3908520"/>
            <a:ext cx="54000" cy="18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240080" y="4761000"/>
            <a:ext cx="63720" cy="12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4240080" y="436572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4645080" y="4886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 flipV="1">
            <a:off x="5149800" y="4830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1" name=""/>
          <p:cNvGrpSpPr/>
          <p:nvPr/>
        </p:nvGrpSpPr>
        <p:grpSpPr>
          <a:xfrm>
            <a:off x="2128320" y="3220560"/>
            <a:ext cx="4162680" cy="3378240"/>
            <a:chOff x="2128320" y="3220560"/>
            <a:chExt cx="4162680" cy="3378240"/>
          </a:xfrm>
        </p:grpSpPr>
        <p:grpSp>
          <p:nvGrpSpPr>
            <p:cNvPr id="792" name=""/>
            <p:cNvGrpSpPr/>
            <p:nvPr/>
          </p:nvGrpSpPr>
          <p:grpSpPr>
            <a:xfrm>
              <a:off x="2128320" y="3220560"/>
              <a:ext cx="4162680" cy="3378240"/>
              <a:chOff x="2128320" y="3220560"/>
              <a:chExt cx="4162680" cy="3378240"/>
            </a:xfrm>
          </p:grpSpPr>
          <p:sp>
            <p:nvSpPr>
              <p:cNvPr id="793" name=""/>
              <p:cNvSpPr/>
              <p:nvPr/>
            </p:nvSpPr>
            <p:spPr>
              <a:xfrm>
                <a:off x="2563200" y="3623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3681720" y="4317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2749680" y="4696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2128320" y="5707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2749680" y="5580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V="1">
                <a:off x="3806280" y="4885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3868200" y="4696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4551840" y="4365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4303080" y="4885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3806280" y="5580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H="1" flipV="1">
                <a:off x="4652280" y="5296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4543920" y="4072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66240" y="3899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4660200" y="5833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157360" y="4894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4574880" y="4088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V="1">
                <a:off x="5149800" y="4341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5444640" y="3867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4528080" y="3220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2" name=""/>
            <p:cNvSpPr/>
            <p:nvPr/>
          </p:nvSpPr>
          <p:spPr>
            <a:xfrm>
              <a:off x="4963680" y="5936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3" name=""/>
          <p:cNvSpPr/>
          <p:nvPr/>
        </p:nvSpPr>
        <p:spPr>
          <a:xfrm>
            <a:off x="4660560" y="5591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2739960" y="3889440"/>
            <a:ext cx="2739600" cy="1988640"/>
            <a:chOff x="2739960" y="3889440"/>
            <a:chExt cx="2739600" cy="1988640"/>
          </a:xfrm>
        </p:grpSpPr>
        <p:sp>
          <p:nvSpPr>
            <p:cNvPr id="815" name=""/>
            <p:cNvSpPr/>
            <p:nvPr/>
          </p:nvSpPr>
          <p:spPr>
            <a:xfrm>
              <a:off x="4624560" y="5804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790800" y="5541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739960" y="5675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837600" y="4665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221720" y="473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276080" y="4871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611600" y="5266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117760" y="4878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113440" y="4785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12960" y="4345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536360" y="4061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488480" y="3889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639600" y="4286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407200" y="4306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9" name=""/>
          <p:cNvSpPr/>
          <p:nvPr/>
        </p:nvSpPr>
        <p:spPr>
          <a:xfrm>
            <a:off x="3930480" y="5897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118040" y="5265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61484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49720" y="520236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484960" y="4697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924440" y="4317840"/>
            <a:ext cx="187200" cy="190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5049720" y="39402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7000" y="501336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371760" y="450864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3930480" y="4255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3807000" y="387684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145680" y="5153040"/>
            <a:ext cx="86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164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47640" y="115524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de segments into uni-directional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hain of counter-clockwise half-edges forms a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 a half-edge’s “twin” to be its opposite half-edge of the same se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3" name=""/>
          <p:cNvGrpSpPr/>
          <p:nvPr/>
        </p:nvGrpSpPr>
        <p:grpSpPr>
          <a:xfrm>
            <a:off x="1848960" y="2674440"/>
            <a:ext cx="4897440" cy="3975120"/>
            <a:chOff x="1848960" y="2674440"/>
            <a:chExt cx="4897440" cy="3975120"/>
          </a:xfrm>
        </p:grpSpPr>
        <p:sp>
          <p:nvSpPr>
            <p:cNvPr id="844" name=""/>
            <p:cNvSpPr/>
            <p:nvPr/>
          </p:nvSpPr>
          <p:spPr>
            <a:xfrm flipH="1" flipV="1">
              <a:off x="4663800" y="3483720"/>
              <a:ext cx="63360" cy="22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333320" y="4486680"/>
              <a:ext cx="7488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V="1">
              <a:off x="4333320" y="4021200"/>
              <a:ext cx="366120" cy="46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V="1">
              <a:off x="4809600" y="4633920"/>
              <a:ext cx="593640" cy="48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5403600" y="4569120"/>
              <a:ext cx="0" cy="8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361240" y="3148920"/>
              <a:ext cx="1314360" cy="8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3675960" y="3965400"/>
              <a:ext cx="219960" cy="44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2579760" y="4411800"/>
              <a:ext cx="1316160" cy="118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1848960" y="5600160"/>
              <a:ext cx="73044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V="1">
              <a:off x="2579760" y="5452200"/>
              <a:ext cx="1243800" cy="14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3823560" y="4633920"/>
              <a:ext cx="584280" cy="81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3896280" y="4411800"/>
              <a:ext cx="43920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699440" y="4021560"/>
              <a:ext cx="694440" cy="54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408200" y="4634280"/>
              <a:ext cx="401400" cy="47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3823560" y="5452560"/>
              <a:ext cx="1004400" cy="29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 flipV="1">
              <a:off x="4818600" y="5118120"/>
              <a:ext cx="9000" cy="62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4690080" y="3677400"/>
              <a:ext cx="37080" cy="34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3659040" y="3474000"/>
              <a:ext cx="1014120" cy="47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4828320" y="5749560"/>
              <a:ext cx="537840" cy="90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412960" y="4643640"/>
              <a:ext cx="1333440" cy="11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727520" y="3696480"/>
              <a:ext cx="1032480" cy="29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5403600" y="3993480"/>
              <a:ext cx="347040" cy="57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V="1">
              <a:off x="5750640" y="3436200"/>
              <a:ext cx="967680" cy="54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V="1">
              <a:off x="4673160" y="2674440"/>
              <a:ext cx="54000" cy="79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5184720" y="58690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826880" y="5463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0" name=""/>
            <p:cNvGrpSpPr/>
            <p:nvPr/>
          </p:nvGrpSpPr>
          <p:grpSpPr>
            <a:xfrm>
              <a:off x="2568240" y="3461400"/>
              <a:ext cx="3223080" cy="2340000"/>
              <a:chOff x="2568240" y="3461400"/>
              <a:chExt cx="3223080" cy="2340000"/>
            </a:xfrm>
          </p:grpSpPr>
          <p:sp>
            <p:nvSpPr>
              <p:cNvPr id="871" name=""/>
              <p:cNvSpPr/>
              <p:nvPr/>
            </p:nvSpPr>
            <p:spPr>
              <a:xfrm>
                <a:off x="4785120" y="57150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804480" y="5405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2568240" y="556344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859560" y="43743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311360" y="44578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375440" y="461736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770000" y="5081760"/>
                <a:ext cx="8460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365440" y="46249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360400" y="45151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4654080" y="3998520"/>
                <a:ext cx="84960" cy="860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040" bIns="14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4681800" y="36640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625280" y="346140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3626280" y="392868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706360" y="3951720"/>
                <a:ext cx="84960" cy="86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4400" bIns="14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5" name=""/>
            <p:cNvSpPr/>
            <p:nvPr/>
          </p:nvSpPr>
          <p:spPr>
            <a:xfrm>
              <a:off x="3969000" y="582408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4189680" y="508068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7396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285880" y="500616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5797800" y="4411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138280" y="3965400"/>
              <a:ext cx="219960" cy="224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285880" y="3520800"/>
              <a:ext cx="2185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823560" y="4783680"/>
              <a:ext cx="21780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311640" y="4189680"/>
              <a:ext cx="21852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969000" y="3892320"/>
              <a:ext cx="220320" cy="2221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823560" y="3446280"/>
              <a:ext cx="217800" cy="2217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044160" y="4948200"/>
              <a:ext cx="9828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ell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7" name=""/>
          <p:cNvSpPr/>
          <p:nvPr/>
        </p:nvSpPr>
        <p:spPr>
          <a:xfrm>
            <a:off x="2476440" y="3149640"/>
            <a:ext cx="1117800" cy="6984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3657600" y="3454200"/>
            <a:ext cx="91440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4635360" y="2743200"/>
            <a:ext cx="25560" cy="635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4749480" y="2743200"/>
            <a:ext cx="50760" cy="6602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724280" y="3479760"/>
            <a:ext cx="6372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889520" y="3683160"/>
            <a:ext cx="81288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5765760" y="3428640"/>
            <a:ext cx="863640" cy="469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 flipH="1">
            <a:off x="5841720" y="3530520"/>
            <a:ext cx="863640" cy="470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 flipH="1">
            <a:off x="5486040" y="4076640"/>
            <a:ext cx="304920" cy="520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5549760" y="4686480"/>
            <a:ext cx="1130400" cy="927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H="1" flipV="1">
            <a:off x="5423040" y="4774680"/>
            <a:ext cx="1231920" cy="978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4927680" y="4775040"/>
            <a:ext cx="380880" cy="343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4876920" y="5194440"/>
            <a:ext cx="0" cy="520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4952880" y="5829480"/>
            <a:ext cx="432000" cy="749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 flipH="1" flipV="1">
            <a:off x="4813200" y="5842080"/>
            <a:ext cx="457200" cy="799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 flipH="1" flipV="1">
            <a:off x="3886200" y="5524200"/>
            <a:ext cx="8510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 flipH="1">
            <a:off x="2654280" y="5524560"/>
            <a:ext cx="1155600" cy="1396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 flipH="1">
            <a:off x="1929960" y="5702400"/>
            <a:ext cx="647640" cy="241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1879560" y="5524200"/>
            <a:ext cx="647640" cy="266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2616120" y="4431960"/>
            <a:ext cx="1193760" cy="1079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3645000" y="4051440"/>
            <a:ext cx="139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 flipV="1">
            <a:off x="2412720" y="3276720"/>
            <a:ext cx="1181160" cy="7365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3746520" y="3962520"/>
            <a:ext cx="17784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975120" y="4368960"/>
            <a:ext cx="342720" cy="507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 flipV="1">
            <a:off x="4343400" y="4013280"/>
            <a:ext cx="279360" cy="342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 flipV="1">
            <a:off x="4635360" y="3746520"/>
            <a:ext cx="25560" cy="203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 flipH="1" flipV="1">
            <a:off x="4610160" y="3555720"/>
            <a:ext cx="63360" cy="152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 flipH="1">
            <a:off x="3784680" y="3594240"/>
            <a:ext cx="774720" cy="368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 flipH="1">
            <a:off x="2730600" y="4483080"/>
            <a:ext cx="119376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 flipV="1">
            <a:off x="2819520" y="5384520"/>
            <a:ext cx="95256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3848040" y="4660920"/>
            <a:ext cx="482760" cy="67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 flipH="1" flipV="1">
            <a:off x="4279680" y="4495680"/>
            <a:ext cx="50760" cy="114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 flipH="1" flipV="1">
            <a:off x="3949560" y="4483080"/>
            <a:ext cx="254160" cy="381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406760" y="4483080"/>
            <a:ext cx="51120" cy="127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 flipH="1">
            <a:off x="4457520" y="4127400"/>
            <a:ext cx="253800" cy="279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H="1" flipV="1">
            <a:off x="4800600" y="4152600"/>
            <a:ext cx="520560" cy="431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4508640" y="4648320"/>
            <a:ext cx="330120" cy="393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4889520" y="4622400"/>
            <a:ext cx="419040" cy="3301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H="1" flipV="1">
            <a:off x="4788000" y="3771720"/>
            <a:ext cx="838080" cy="228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H="1">
            <a:off x="4736880" y="3797280"/>
            <a:ext cx="12600" cy="190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4788000" y="4038480"/>
            <a:ext cx="584280" cy="4446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5397480" y="4076640"/>
            <a:ext cx="19044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H="1" flipV="1">
            <a:off x="4427640" y="4746240"/>
            <a:ext cx="288720" cy="358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H="1">
            <a:off x="3948120" y="4775040"/>
            <a:ext cx="449280" cy="595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976560" y="5427720"/>
            <a:ext cx="770040" cy="233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4775040" y="5105160"/>
            <a:ext cx="0" cy="468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ubly Linked List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ell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ll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: pointer to any incident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list of pointers to all incident half-ed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-List of half-edges; each h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Cell Table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start/end vertices of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s to previous/next half-edges in the CCW ch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er to twin half-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647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alanced Binary Tre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28600" y="1028880"/>
            <a:ext cx="8750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nal nodes represent break points between two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th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of the edge being trac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f nodes represent arcs, each arc is in turn represented by the site that generated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contains a pointer to a potential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7" name=""/>
          <p:cNvGrpSpPr/>
          <p:nvPr/>
        </p:nvGrpSpPr>
        <p:grpSpPr>
          <a:xfrm>
            <a:off x="558720" y="3521160"/>
            <a:ext cx="3720240" cy="3031920"/>
            <a:chOff x="558720" y="3521160"/>
            <a:chExt cx="3720240" cy="3031920"/>
          </a:xfrm>
        </p:grpSpPr>
        <p:sp>
          <p:nvSpPr>
            <p:cNvPr id="948" name=""/>
            <p:cNvSpPr/>
            <p:nvPr/>
          </p:nvSpPr>
          <p:spPr>
            <a:xfrm>
              <a:off x="1841400" y="358128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977760" y="4826160"/>
              <a:ext cx="406440" cy="40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666880" y="4813200"/>
              <a:ext cx="406440" cy="406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51" name=""/>
            <p:cNvCxnSpPr>
              <a:stCxn id="948" idx="3"/>
              <a:endCxn id="949" idx="7"/>
            </p:cNvCxnSpPr>
            <p:nvPr/>
          </p:nvCxnSpPr>
          <p:spPr>
            <a:xfrm flipH="1">
              <a:off x="1325160" y="3928680"/>
              <a:ext cx="575280" cy="9565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52" name=""/>
            <p:cNvCxnSpPr>
              <a:stCxn id="948" idx="5"/>
              <a:endCxn id="950" idx="1"/>
            </p:cNvCxnSpPr>
            <p:nvPr/>
          </p:nvCxnSpPr>
          <p:spPr>
            <a:xfrm>
              <a:off x="2189160" y="3928680"/>
              <a:ext cx="536760" cy="9435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53" name=""/>
            <p:cNvSpPr/>
            <p:nvPr/>
          </p:nvSpPr>
          <p:spPr>
            <a:xfrm>
              <a:off x="55872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1409760" y="6108840"/>
              <a:ext cx="43164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247840" y="6121440"/>
              <a:ext cx="432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098880" y="6095880"/>
              <a:ext cx="43164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07240" y="352116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403640" y="4842000"/>
              <a:ext cx="11552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j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3094560" y="4854600"/>
              <a:ext cx="1184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lt;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gt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0" name=""/>
            <p:cNvCxnSpPr>
              <a:stCxn id="949" idx="3"/>
              <a:endCxn id="953" idx="0"/>
            </p:cNvCxnSpPr>
            <p:nvPr/>
          </p:nvCxnSpPr>
          <p:spPr>
            <a:xfrm flipH="1">
              <a:off x="774360" y="5173200"/>
              <a:ext cx="262800" cy="9486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1" name=""/>
            <p:cNvCxnSpPr>
              <a:stCxn id="949" idx="5"/>
              <a:endCxn id="954" idx="0"/>
            </p:cNvCxnSpPr>
            <p:nvPr/>
          </p:nvCxnSpPr>
          <p:spPr>
            <a:xfrm>
              <a:off x="1325520" y="5173560"/>
              <a:ext cx="300600" cy="936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2" name=""/>
            <p:cNvCxnSpPr>
              <a:stCxn id="950" idx="3"/>
              <a:endCxn id="955" idx="0"/>
            </p:cNvCxnSpPr>
            <p:nvPr/>
          </p:nvCxnSpPr>
          <p:spPr>
            <a:xfrm flipH="1">
              <a:off x="2463480" y="5160960"/>
              <a:ext cx="262080" cy="9612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3" name=""/>
            <p:cNvCxnSpPr>
              <a:stCxn id="950" idx="5"/>
              <a:endCxn id="956" idx="0"/>
            </p:cNvCxnSpPr>
            <p:nvPr/>
          </p:nvCxnSpPr>
          <p:spPr>
            <a:xfrm>
              <a:off x="3014640" y="5160600"/>
              <a:ext cx="300600" cy="93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64" name=""/>
          <p:cNvSpPr/>
          <p:nvPr/>
        </p:nvSpPr>
        <p:spPr>
          <a:xfrm>
            <a:off x="5448240" y="568944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6311880" y="565164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74000" y="60325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378560" y="549900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5880240" y="6261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6743880" y="47498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07160" y="4432320"/>
            <a:ext cx="15264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7035840" y="3860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5829480" y="42544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626080" y="36576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041800" y="44578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4613040" y="4130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412960" y="39146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596280" y="41940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7826040" y="4105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4546440" y="53848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788000" y="53974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834408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8468640" y="4930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533840" y="478800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5613480" y="480060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197760" y="4788000"/>
            <a:ext cx="1231920" cy="34272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7365960" y="454644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114200" y="3900600"/>
            <a:ext cx="7373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diku.dk/students/duff/Fortune/</a:t>
            </a:r>
            <a:br>
              <a:rPr sz="3200"/>
            </a:b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http://www.msi.umn.edu/~schaudt/voronoi/voronoi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event is an interesting point encountered by the sweep line as it sweeps from top to bott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makes discrete stops, rather than a continuous sw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sts of Site Events (when the sweep line encounters a new site point) and Circle Events (when the sweep line encounters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otto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an empty circle touching 3 or more sites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s are prioritized based on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2995560" y="514836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325680" y="51735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068880" y="516096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2917800" y="3846600"/>
            <a:ext cx="2030400" cy="920520"/>
          </a:xfrm>
          <a:custGeom>
            <a:avLst/>
            <a:gdLst/>
            <a:ahLst/>
            <a:rect l="l" t="t" r="r" b="b"/>
            <a:pathLst>
              <a:path w="1234" h="616">
                <a:moveTo>
                  <a:pt x="0" y="292"/>
                </a:moveTo>
                <a:cubicBezTo>
                  <a:pt x="171" y="454"/>
                  <a:pt x="342" y="616"/>
                  <a:pt x="548" y="567"/>
                </a:cubicBezTo>
                <a:cubicBezTo>
                  <a:pt x="754" y="518"/>
                  <a:pt x="994" y="259"/>
                  <a:pt x="1234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4919760" y="3860640"/>
            <a:ext cx="1539720" cy="187560"/>
          </a:xfrm>
          <a:custGeom>
            <a:avLst/>
            <a:gdLst/>
            <a:ahLst/>
            <a:rect l="l" t="t" r="r" b="b"/>
            <a:pathLst>
              <a:path w="970" h="118">
                <a:moveTo>
                  <a:pt x="0" y="0"/>
                </a:moveTo>
                <a:cubicBezTo>
                  <a:pt x="221" y="51"/>
                  <a:pt x="442" y="102"/>
                  <a:pt x="604" y="110"/>
                </a:cubicBezTo>
                <a:cubicBezTo>
                  <a:pt x="766" y="118"/>
                  <a:pt x="868" y="82"/>
                  <a:pt x="970" y="46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409248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 flipV="1">
            <a:off x="3444840" y="4142880"/>
            <a:ext cx="167652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14656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new arc appears when a new site appears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1080" y="419724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5759280" y="2816280"/>
            <a:ext cx="14004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2995560" y="5334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325680" y="5359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6068880" y="5346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117840" y="4707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199040" y="524340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873520" y="3976560"/>
            <a:ext cx="2206440" cy="839880"/>
          </a:xfrm>
          <a:custGeom>
            <a:avLst/>
            <a:gdLst/>
            <a:ahLst/>
            <a:rect l="l" t="t" r="r" b="b"/>
            <a:pathLst>
              <a:path w="1390" h="529">
                <a:moveTo>
                  <a:pt x="0" y="293"/>
                </a:moveTo>
                <a:cubicBezTo>
                  <a:pt x="204" y="411"/>
                  <a:pt x="409" y="529"/>
                  <a:pt x="604" y="521"/>
                </a:cubicBezTo>
                <a:cubicBezTo>
                  <a:pt x="799" y="513"/>
                  <a:pt x="1040" y="334"/>
                  <a:pt x="1171" y="247"/>
                </a:cubicBezTo>
                <a:cubicBezTo>
                  <a:pt x="1302" y="160"/>
                  <a:pt x="1346" y="80"/>
                  <a:pt x="1390" y="0"/>
                </a:cubicBezTo>
              </a:path>
            </a:pathLst>
          </a:custGeom>
          <a:noFill/>
          <a:ln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5065560" y="3962520"/>
            <a:ext cx="1465560" cy="149040"/>
          </a:xfrm>
          <a:custGeom>
            <a:avLst/>
            <a:gdLst/>
            <a:ahLst/>
            <a:rect l="l" t="t" r="r" b="b"/>
            <a:pathLst>
              <a:path w="923" h="94">
                <a:moveTo>
                  <a:pt x="0" y="0"/>
                </a:moveTo>
                <a:cubicBezTo>
                  <a:pt x="179" y="44"/>
                  <a:pt x="358" y="88"/>
                  <a:pt x="512" y="91"/>
                </a:cubicBezTo>
                <a:cubicBezTo>
                  <a:pt x="666" y="94"/>
                  <a:pt x="794" y="56"/>
                  <a:pt x="923" y="18"/>
                </a:cubicBezTo>
              </a:path>
            </a:pathLst>
          </a:custGeom>
          <a:noFill/>
          <a:ln w="255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flipV="1">
            <a:off x="4267080" y="4659480"/>
            <a:ext cx="0" cy="65232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164120" y="279720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 flipV="1">
            <a:off x="3516480" y="4142880"/>
            <a:ext cx="1676160" cy="101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5218200" y="4143240"/>
            <a:ext cx="228600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714240" y="1647720"/>
            <a:ext cx="777240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arc above the new site is broken into 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umber of arcs on beach line is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33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3857760" y="447516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5013360" y="411948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2879640" y="465300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654360" y="425916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5533920" y="296388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4137120" y="5199120"/>
            <a:ext cx="139680" cy="139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2943360" y="541512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3273480" y="54403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6016680" y="542772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6065280" y="4973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687920" y="4122720"/>
            <a:ext cx="333360" cy="361800"/>
          </a:xfrm>
          <a:custGeom>
            <a:avLst/>
            <a:gdLst/>
            <a:ahLst/>
            <a:rect l="l" t="t" r="r" b="b"/>
            <a:pathLst>
              <a:path w="210" h="228">
                <a:moveTo>
                  <a:pt x="0" y="228"/>
                </a:moveTo>
                <a:cubicBezTo>
                  <a:pt x="37" y="187"/>
                  <a:pt x="75" y="147"/>
                  <a:pt x="110" y="109"/>
                </a:cubicBezTo>
                <a:cubicBezTo>
                  <a:pt x="145" y="71"/>
                  <a:pt x="177" y="35"/>
                  <a:pt x="210" y="0"/>
                </a:cubicBezTo>
              </a:path>
            </a:pathLst>
          </a:custGeom>
          <a:noFill/>
          <a:ln w="633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064040" y="2911320"/>
            <a:ext cx="1054080" cy="135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 flipV="1">
            <a:off x="3416400" y="4257720"/>
            <a:ext cx="1676160" cy="1015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5118120" y="4257720"/>
            <a:ext cx="2286000" cy="11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713880" y="1647720"/>
            <a:ext cx="807732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rc disappears whenever an empty circle touches three or more sites and is tangent to the sweep lin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936000" y="5819760"/>
            <a:ext cx="737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 helps determine that the circle is indeed emp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570960" y="4143240"/>
            <a:ext cx="3746880" cy="1393920"/>
            <a:chOff x="570960" y="4143240"/>
            <a:chExt cx="3746880" cy="1393920"/>
          </a:xfrm>
        </p:grpSpPr>
        <p:sp>
          <p:nvSpPr>
            <p:cNvPr id="1038" name=""/>
            <p:cNvSpPr/>
            <p:nvPr/>
          </p:nvSpPr>
          <p:spPr>
            <a:xfrm>
              <a:off x="570960" y="4143240"/>
              <a:ext cx="2201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Circle Event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93960" y="4546440"/>
              <a:ext cx="1409760" cy="889200"/>
            </a:xfrm>
            <a:prstGeom prst="line">
              <a:avLst/>
            </a:prstGeom>
            <a:ln w="63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91120" y="5410080"/>
              <a:ext cx="126720" cy="127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1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1566000" y="4670280"/>
            <a:ext cx="16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eep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2503440" y="4995720"/>
            <a:ext cx="0" cy="3654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 flipV="1">
            <a:off x="4322520" y="2960280"/>
            <a:ext cx="44280" cy="13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2714760" y="2698920"/>
            <a:ext cx="933480" cy="58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3648240" y="3282840"/>
            <a:ext cx="590400" cy="121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4257720" y="3100320"/>
            <a:ext cx="104760" cy="141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 flipV="1">
            <a:off x="3637080" y="2952720"/>
            <a:ext cx="67608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4367160" y="3090960"/>
            <a:ext cx="824040" cy="23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 flipV="1">
            <a:off x="4317840" y="2518920"/>
            <a:ext cx="36720" cy="43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4684680" y="3282840"/>
            <a:ext cx="157320" cy="1605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4789440" y="2965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3753000" y="2911320"/>
            <a:ext cx="155520" cy="158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4974840" y="27018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108760" y="2475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94160" y="2513160"/>
            <a:ext cx="1191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0" name=""/>
          <p:cNvGrpSpPr/>
          <p:nvPr/>
        </p:nvGrpSpPr>
        <p:grpSpPr>
          <a:xfrm>
            <a:off x="4251240" y="4522320"/>
            <a:ext cx="3475080" cy="862920"/>
            <a:chOff x="4251240" y="4522320"/>
            <a:chExt cx="3475080" cy="862920"/>
          </a:xfrm>
        </p:grpSpPr>
        <p:sp>
          <p:nvSpPr>
            <p:cNvPr id="1061" name=""/>
            <p:cNvSpPr/>
            <p:nvPr/>
          </p:nvSpPr>
          <p:spPr>
            <a:xfrm>
              <a:off x="5146920" y="4864680"/>
              <a:ext cx="257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Times New Roman"/>
                </a:rPr>
                <a:t>Voronoi vertex!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251240" y="4522320"/>
              <a:ext cx="853200" cy="452520"/>
            </a:xfrm>
            <a:prstGeom prst="line">
              <a:avLst/>
            </a:prstGeom>
            <a:ln w="12708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3" name=""/>
          <p:cNvSpPr/>
          <p:nvPr/>
        </p:nvSpPr>
        <p:spPr>
          <a:xfrm>
            <a:off x="4260960" y="4484520"/>
            <a:ext cx="1350720" cy="46080"/>
          </a:xfrm>
          <a:custGeom>
            <a:avLst/>
            <a:gdLst/>
            <a:ahLst/>
            <a:rect l="l" t="t" r="r" b="b"/>
            <a:pathLst>
              <a:path w="1125" h="799">
                <a:moveTo>
                  <a:pt x="0" y="348"/>
                </a:moveTo>
                <a:cubicBezTo>
                  <a:pt x="162" y="573"/>
                  <a:pt x="325" y="799"/>
                  <a:pt x="512" y="741"/>
                </a:cubicBezTo>
                <a:cubicBezTo>
                  <a:pt x="699" y="683"/>
                  <a:pt x="912" y="341"/>
                  <a:pt x="1125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2871720" y="4473720"/>
            <a:ext cx="1406520" cy="6984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vent Queue 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2056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 Events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as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site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rcle Events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ed on the fly (intersection of the two bisectors in between the three sit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ed by the xy-coordinate of the lowest point of an empty circle touching three or more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ted”, these newly generated events may be false and need to be removed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prioritizes events based on their y-coordin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izing Data Struct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005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Voronoi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y linked list of half-edge, vertex, cell 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beach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ner nodes of binary search tree; represented by a tu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ep track of arcs currently on beach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af nodes of binary search tree; represented by a site that generated the ar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state of the sweep 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 event queue sorted on decreasing y-coordin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 queue Q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ll sit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earch tree T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y linked list D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le Q not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move event (e) from Q with largest y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Event(e, T, 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existing arc (if any)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its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two half-edge records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event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cate the existing arc that is above the new sit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1917720" y="27050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1054080" y="39495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2743200" y="3936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7" name=""/>
          <p:cNvCxnSpPr>
            <a:stCxn id="1074" idx="3"/>
            <a:endCxn id="1075" idx="7"/>
          </p:cNvCxnSpPr>
          <p:nvPr/>
        </p:nvCxnSpPr>
        <p:spPr>
          <a:xfrm flipH="1">
            <a:off x="1401480" y="3052440"/>
            <a:ext cx="575280" cy="95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78" name=""/>
          <p:cNvCxnSpPr>
            <a:stCxn id="1074" idx="5"/>
            <a:endCxn id="1076" idx="1"/>
          </p:cNvCxnSpPr>
          <p:nvPr/>
        </p:nvCxnSpPr>
        <p:spPr>
          <a:xfrm>
            <a:off x="2265480" y="3052440"/>
            <a:ext cx="536760" cy="9435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79" name=""/>
          <p:cNvSpPr/>
          <p:nvPr/>
        </p:nvSpPr>
        <p:spPr>
          <a:xfrm>
            <a:off x="63504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1486080" y="52322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324160" y="524520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3174840" y="52196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2383560" y="26449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1479600" y="396540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3170880" y="397836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86" name=""/>
          <p:cNvCxnSpPr>
            <a:stCxn id="1075" idx="3"/>
            <a:endCxn id="1079" idx="0"/>
          </p:cNvCxnSpPr>
          <p:nvPr/>
        </p:nvCxnSpPr>
        <p:spPr>
          <a:xfrm flipH="1">
            <a:off x="850680" y="4296960"/>
            <a:ext cx="262080" cy="9486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7" name=""/>
          <p:cNvCxnSpPr>
            <a:stCxn id="1075" idx="5"/>
            <a:endCxn id="1080" idx="0"/>
          </p:cNvCxnSpPr>
          <p:nvPr/>
        </p:nvCxnSpPr>
        <p:spPr>
          <a:xfrm>
            <a:off x="1401480" y="42969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8" name=""/>
          <p:cNvCxnSpPr>
            <a:stCxn id="1076" idx="3"/>
            <a:endCxn id="1081" idx="0"/>
          </p:cNvCxnSpPr>
          <p:nvPr/>
        </p:nvCxnSpPr>
        <p:spPr>
          <a:xfrm flipH="1">
            <a:off x="2539800" y="42847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89" name=""/>
          <p:cNvCxnSpPr>
            <a:stCxn id="1076" idx="5"/>
            <a:endCxn id="1082" idx="0"/>
          </p:cNvCxnSpPr>
          <p:nvPr/>
        </p:nvCxnSpPr>
        <p:spPr>
          <a:xfrm>
            <a:off x="3090600" y="4284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90" name=""/>
          <p:cNvSpPr/>
          <p:nvPr/>
        </p:nvSpPr>
        <p:spPr>
          <a:xfrm>
            <a:off x="375480" y="1355760"/>
            <a:ext cx="800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the new site is used for the binary 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x coordinate of each breakpoint along the root to leaf pa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is computed on the f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680160" y="412740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543800" y="38098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765760" y="36320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978440" y="38354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549320" y="35082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349600" y="32925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532560" y="357192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7762680" y="34830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4495680" y="507996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4737240" y="509256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8292960" y="510552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8417880" y="46260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470480" y="4165560"/>
            <a:ext cx="1104840" cy="2221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549760" y="4178160"/>
            <a:ext cx="635040" cy="651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34040" y="4165560"/>
            <a:ext cx="1231920" cy="34308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7316640" y="3895560"/>
            <a:ext cx="1231920" cy="476280"/>
          </a:xfrm>
          <a:custGeom>
            <a:avLst/>
            <a:gdLst/>
            <a:ahLst/>
            <a:rect l="l" t="t" r="r" b="b"/>
            <a:pathLst>
              <a:path w="776" h="300">
                <a:moveTo>
                  <a:pt x="0" y="216"/>
                </a:moveTo>
                <a:cubicBezTo>
                  <a:pt x="91" y="258"/>
                  <a:pt x="183" y="300"/>
                  <a:pt x="312" y="264"/>
                </a:cubicBezTo>
                <a:cubicBezTo>
                  <a:pt x="441" y="228"/>
                  <a:pt x="608" y="114"/>
                  <a:pt x="77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2959200" y="4978440"/>
            <a:ext cx="965160" cy="9651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7594560" y="49276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 flipV="1">
            <a:off x="7670880" y="4343040"/>
            <a:ext cx="0" cy="723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7855920" y="45878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oronoi Diagram Example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 s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eak the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5" name=""/>
          <p:cNvCxnSpPr>
            <a:stCxn id="1112" idx="3"/>
            <a:endCxn id="111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16" name=""/>
          <p:cNvCxnSpPr>
            <a:stCxn id="1112" idx="5"/>
            <a:endCxn id="111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1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3" name=""/>
          <p:cNvCxnSpPr>
            <a:stCxn id="1113" idx="3"/>
            <a:endCxn id="111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4" name=""/>
          <p:cNvCxnSpPr>
            <a:stCxn id="1113" idx="5"/>
            <a:endCxn id="111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5" name=""/>
          <p:cNvCxnSpPr>
            <a:stCxn id="1114" idx="3"/>
            <a:endCxn id="111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26" name=""/>
          <p:cNvCxnSpPr>
            <a:stCxn id="1114" idx="5"/>
            <a:endCxn id="112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28" name=""/>
          <p:cNvSpPr/>
          <p:nvPr/>
        </p:nvSpPr>
        <p:spPr>
          <a:xfrm>
            <a:off x="506520" y="1225440"/>
            <a:ext cx="779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ing leaf replaced by a new sub-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4" name=""/>
          <p:cNvCxnSpPr>
            <a:stCxn id="1149" idx="3"/>
            <a:endCxn id="1150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5" name=""/>
          <p:cNvCxnSpPr>
            <a:stCxn id="1149" idx="5"/>
            <a:endCxn id="1151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6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7" name=""/>
          <p:cNvCxnSpPr>
            <a:stCxn id="1127" idx="3"/>
            <a:endCxn id="1156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8" name=""/>
          <p:cNvCxnSpPr>
            <a:stCxn id="1127" idx="4"/>
            <a:endCxn id="1149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59" name=""/>
          <p:cNvSpPr/>
          <p:nvPr/>
        </p:nvSpPr>
        <p:spPr>
          <a:xfrm>
            <a:off x="4080600" y="5959440"/>
            <a:ext cx="405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ifferent arcs can be identified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y the same si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"/>
          <p:cNvSpPr/>
          <p:nvPr/>
        </p:nvSpPr>
        <p:spPr>
          <a:xfrm>
            <a:off x="5435640" y="1663560"/>
            <a:ext cx="2681280" cy="81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69440" y="317160"/>
            <a:ext cx="7510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1701720" y="2070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851040" y="28576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2540160" y="284472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65" name=""/>
          <p:cNvCxnSpPr>
            <a:stCxn id="1162" idx="3"/>
            <a:endCxn id="1163" idx="7"/>
          </p:cNvCxnSpPr>
          <p:nvPr/>
        </p:nvCxnSpPr>
        <p:spPr>
          <a:xfrm flipH="1">
            <a:off x="1197720" y="2417400"/>
            <a:ext cx="562680" cy="499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66" name=""/>
          <p:cNvCxnSpPr>
            <a:stCxn id="1162" idx="5"/>
            <a:endCxn id="1164" idx="1"/>
          </p:cNvCxnSpPr>
          <p:nvPr/>
        </p:nvCxnSpPr>
        <p:spPr>
          <a:xfrm>
            <a:off x="2049480" y="241740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7" name=""/>
          <p:cNvSpPr/>
          <p:nvPr/>
        </p:nvSpPr>
        <p:spPr>
          <a:xfrm>
            <a:off x="43164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1282680" y="363204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2120760" y="36450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2167560" y="20098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1276560" y="2873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2967840" y="288612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3" name=""/>
          <p:cNvCxnSpPr>
            <a:stCxn id="1163" idx="3"/>
            <a:endCxn id="1167" idx="0"/>
          </p:cNvCxnSpPr>
          <p:nvPr/>
        </p:nvCxnSpPr>
        <p:spPr>
          <a:xfrm flipH="1">
            <a:off x="647280" y="3205080"/>
            <a:ext cx="26280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4" name=""/>
          <p:cNvCxnSpPr>
            <a:stCxn id="1163" idx="5"/>
            <a:endCxn id="1168" idx="0"/>
          </p:cNvCxnSpPr>
          <p:nvPr/>
        </p:nvCxnSpPr>
        <p:spPr>
          <a:xfrm>
            <a:off x="1198440" y="320508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5" name=""/>
          <p:cNvCxnSpPr>
            <a:stCxn id="1164" idx="3"/>
            <a:endCxn id="1169" idx="0"/>
          </p:cNvCxnSpPr>
          <p:nvPr/>
        </p:nvCxnSpPr>
        <p:spPr>
          <a:xfrm flipH="1">
            <a:off x="2336400" y="319212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76" name=""/>
          <p:cNvCxnSpPr>
            <a:stCxn id="1164" idx="5"/>
            <a:endCxn id="1177" idx="0"/>
          </p:cNvCxnSpPr>
          <p:nvPr/>
        </p:nvCxnSpPr>
        <p:spPr>
          <a:xfrm>
            <a:off x="2887560" y="319212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77" name=""/>
          <p:cNvSpPr/>
          <p:nvPr/>
        </p:nvSpPr>
        <p:spPr>
          <a:xfrm>
            <a:off x="3009960" y="36450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>
            <a:off x="3009960" y="480060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2590920" y="61088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3441600" y="6083280"/>
            <a:ext cx="43200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>
            <a:off x="3275280" y="3330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3224160" y="443556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3" name=""/>
          <p:cNvCxnSpPr>
            <a:stCxn id="1178" idx="3"/>
            <a:endCxn id="1179" idx="0"/>
          </p:cNvCxnSpPr>
          <p:nvPr/>
        </p:nvCxnSpPr>
        <p:spPr>
          <a:xfrm flipH="1">
            <a:off x="2806200" y="514836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4" name=""/>
          <p:cNvCxnSpPr>
            <a:stCxn id="1178" idx="5"/>
            <a:endCxn id="1180" idx="0"/>
          </p:cNvCxnSpPr>
          <p:nvPr/>
        </p:nvCxnSpPr>
        <p:spPr>
          <a:xfrm>
            <a:off x="3357360" y="514800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5" name=""/>
          <p:cNvSpPr/>
          <p:nvPr/>
        </p:nvSpPr>
        <p:spPr>
          <a:xfrm>
            <a:off x="1816200" y="6134040"/>
            <a:ext cx="431640" cy="432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6" name=""/>
          <p:cNvCxnSpPr>
            <a:stCxn id="1177" idx="3"/>
            <a:endCxn id="1185" idx="0"/>
          </p:cNvCxnSpPr>
          <p:nvPr/>
        </p:nvCxnSpPr>
        <p:spPr>
          <a:xfrm flipH="1">
            <a:off x="2031480" y="3992040"/>
            <a:ext cx="103752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7" name=""/>
          <p:cNvCxnSpPr>
            <a:stCxn id="1177" idx="4"/>
            <a:endCxn id="1178" idx="0"/>
          </p:cNvCxnSpPr>
          <p:nvPr/>
        </p:nvCxnSpPr>
        <p:spPr>
          <a:xfrm>
            <a:off x="3212640" y="4051080"/>
            <a:ext cx="1080" cy="74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794640" y="429264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7658280" y="39751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5880240" y="379728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5092560" y="4000680"/>
            <a:ext cx="15264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663800" y="3673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5463720" y="34574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6647040" y="373680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7876800" y="3648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851360" y="5410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8407440" y="542304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5283360" y="1511280"/>
            <a:ext cx="2681280" cy="814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 flipV="1">
            <a:off x="3187800" y="2286000"/>
            <a:ext cx="2133360" cy="154944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3200400" y="2489040"/>
            <a:ext cx="2241720" cy="254016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5125320" y="2695680"/>
            <a:ext cx="3335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ointers to two half-edge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7709040" y="50925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610160" y="5397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8532360" y="4943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627440" y="4748040"/>
            <a:ext cx="1105200" cy="907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721480" y="4754520"/>
            <a:ext cx="504720" cy="5724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219720" y="4762440"/>
            <a:ext cx="1333440" cy="13824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7970400" y="475308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7713720" y="4795920"/>
            <a:ext cx="156960" cy="56340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7516800" y="4770360"/>
            <a:ext cx="21132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7872480" y="4643280"/>
            <a:ext cx="749160" cy="16524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0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21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2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23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7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199404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3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34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5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36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2933640" y="50925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685800" y="329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hecking for Potential Circle Ev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1041480" y="1257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can for triple of consecutive arcs and determine if breakpoints conve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ples with new arc in the middle do not have break points that conve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6" name="P1010034" descr=""/>
          <p:cNvPicPr/>
          <p:nvPr/>
        </p:nvPicPr>
        <p:blipFill>
          <a:blip r:embed="rId1">
            <a:biLevel thresh="50000"/>
            <a:lum contrast="6000"/>
          </a:blip>
          <a:srcRect l="31038" t="22052" r="20574" b="24656"/>
          <a:stretch/>
        </p:blipFill>
        <p:spPr>
          <a:xfrm>
            <a:off x="2798640" y="3314880"/>
            <a:ext cx="3795840" cy="3136680"/>
          </a:xfrm>
          <a:prstGeom prst="rect">
            <a:avLst/>
          </a:prstGeom>
          <a:ln w="0">
            <a:noFill/>
          </a:ln>
        </p:spPr>
      </p:pic>
      <p:sp>
        <p:nvSpPr>
          <p:cNvPr id="1247" name=""/>
          <p:cNvSpPr/>
          <p:nvPr/>
        </p:nvSpPr>
        <p:spPr>
          <a:xfrm>
            <a:off x="2336760" y="433080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2768400" y="3340080"/>
            <a:ext cx="4635720" cy="2463840"/>
            <a:chOff x="2768400" y="3340080"/>
            <a:chExt cx="4635720" cy="2463840"/>
          </a:xfrm>
        </p:grpSpPr>
        <p:sp>
          <p:nvSpPr>
            <p:cNvPr id="1249" name=""/>
            <p:cNvSpPr/>
            <p:nvPr/>
          </p:nvSpPr>
          <p:spPr>
            <a:xfrm>
              <a:off x="4064040" y="3340080"/>
              <a:ext cx="1054080" cy="135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 flipV="1">
              <a:off x="3416400" y="4686480"/>
              <a:ext cx="1676160" cy="101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118120" y="4686480"/>
              <a:ext cx="2286000" cy="11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H="1">
              <a:off x="2768400" y="3505320"/>
              <a:ext cx="609480" cy="217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3" name=""/>
          <p:cNvSpPr/>
          <p:nvPr/>
        </p:nvSpPr>
        <p:spPr>
          <a:xfrm>
            <a:off x="1981080" y="5118120"/>
            <a:ext cx="965160" cy="6336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3898800" y="492768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4749840" y="4597560"/>
            <a:ext cx="291960" cy="317520"/>
          </a:xfrm>
          <a:custGeom>
            <a:avLst/>
            <a:gdLst/>
            <a:ahLst/>
            <a:rect l="l" t="t" r="r" b="b"/>
            <a:pathLst>
              <a:path w="184" h="200">
                <a:moveTo>
                  <a:pt x="0" y="200"/>
                </a:moveTo>
                <a:cubicBezTo>
                  <a:pt x="40" y="168"/>
                  <a:pt x="81" y="137"/>
                  <a:pt x="112" y="104"/>
                </a:cubicBezTo>
                <a:cubicBezTo>
                  <a:pt x="143" y="71"/>
                  <a:pt x="163" y="35"/>
                  <a:pt x="184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054760" y="4572000"/>
            <a:ext cx="1269720" cy="9036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verging break points may not always yield 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earance of a new site before the circle event makes the potential circle non-emp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2209680" y="40640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854360" y="48513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3772080" y="4660920"/>
            <a:ext cx="825480" cy="919080"/>
          </a:xfrm>
          <a:custGeom>
            <a:avLst/>
            <a:gdLst/>
            <a:ahLst/>
            <a:rect l="l" t="t" r="r" b="b"/>
            <a:pathLst>
              <a:path w="520" h="579">
                <a:moveTo>
                  <a:pt x="0" y="312"/>
                </a:moveTo>
                <a:cubicBezTo>
                  <a:pt x="79" y="445"/>
                  <a:pt x="159" y="579"/>
                  <a:pt x="232" y="576"/>
                </a:cubicBezTo>
                <a:cubicBezTo>
                  <a:pt x="305" y="573"/>
                  <a:pt x="392" y="392"/>
                  <a:pt x="440" y="296"/>
                </a:cubicBezTo>
                <a:cubicBezTo>
                  <a:pt x="488" y="200"/>
                  <a:pt x="504" y="100"/>
                  <a:pt x="52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927680" y="4305240"/>
            <a:ext cx="1270080" cy="90720"/>
          </a:xfrm>
          <a:custGeom>
            <a:avLst/>
            <a:gdLst/>
            <a:ahLst/>
            <a:rect l="l" t="t" r="r" b="b"/>
            <a:pathLst>
              <a:path w="800" h="57">
                <a:moveTo>
                  <a:pt x="0" y="8"/>
                </a:moveTo>
                <a:cubicBezTo>
                  <a:pt x="133" y="32"/>
                  <a:pt x="267" y="57"/>
                  <a:pt x="400" y="56"/>
                </a:cubicBezTo>
                <a:cubicBezTo>
                  <a:pt x="533" y="55"/>
                  <a:pt x="666" y="27"/>
                  <a:pt x="80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793960" y="4838760"/>
            <a:ext cx="978120" cy="304920"/>
          </a:xfrm>
          <a:custGeom>
            <a:avLst/>
            <a:gdLst/>
            <a:ahLst/>
            <a:rect l="l" t="t" r="r" b="b"/>
            <a:pathLst>
              <a:path w="616" h="192">
                <a:moveTo>
                  <a:pt x="0" y="0"/>
                </a:moveTo>
                <a:cubicBezTo>
                  <a:pt x="92" y="64"/>
                  <a:pt x="185" y="128"/>
                  <a:pt x="288" y="160"/>
                </a:cubicBezTo>
                <a:cubicBezTo>
                  <a:pt x="391" y="192"/>
                  <a:pt x="503" y="192"/>
                  <a:pt x="616" y="192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1854360" y="4863960"/>
            <a:ext cx="965160" cy="63720"/>
          </a:xfrm>
          <a:custGeom>
            <a:avLst/>
            <a:gdLst/>
            <a:ahLst/>
            <a:rect l="l" t="t" r="r" b="b"/>
            <a:pathLst>
              <a:path w="608" h="40">
                <a:moveTo>
                  <a:pt x="608" y="0"/>
                </a:moveTo>
                <a:cubicBezTo>
                  <a:pt x="506" y="20"/>
                  <a:pt x="405" y="40"/>
                  <a:pt x="304" y="40"/>
                </a:cubicBezTo>
                <a:cubicBezTo>
                  <a:pt x="203" y="40"/>
                  <a:pt x="101" y="20"/>
                  <a:pt x="0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3568680" y="444492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448240" y="314964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4051440" y="5384880"/>
            <a:ext cx="139680" cy="1396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857680" y="5600880"/>
            <a:ext cx="3340080" cy="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3187800" y="56260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5931000" y="5613480"/>
            <a:ext cx="0" cy="444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5979600" y="51595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4686480" y="5499000"/>
            <a:ext cx="177480" cy="177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4711680" y="4483080"/>
            <a:ext cx="101520" cy="1130400"/>
          </a:xfrm>
          <a:custGeom>
            <a:avLst/>
            <a:gdLst/>
            <a:ahLst/>
            <a:rect l="l" t="t" r="r" b="b"/>
            <a:pathLst>
              <a:path w="64" h="712">
                <a:moveTo>
                  <a:pt x="0" y="48"/>
                </a:moveTo>
                <a:cubicBezTo>
                  <a:pt x="14" y="380"/>
                  <a:pt x="29" y="712"/>
                  <a:pt x="40" y="704"/>
                </a:cubicBezTo>
                <a:cubicBezTo>
                  <a:pt x="51" y="696"/>
                  <a:pt x="57" y="348"/>
                  <a:pt x="64" y="0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610160" y="4559400"/>
            <a:ext cx="88920" cy="114120"/>
          </a:xfrm>
          <a:custGeom>
            <a:avLst/>
            <a:gdLst/>
            <a:ahLst/>
            <a:rect l="l" t="t" r="r" b="b"/>
            <a:pathLst>
              <a:path w="56" h="72">
                <a:moveTo>
                  <a:pt x="0" y="72"/>
                </a:moveTo>
                <a:cubicBezTo>
                  <a:pt x="0" y="72"/>
                  <a:pt x="28" y="36"/>
                  <a:pt x="56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4813200" y="4305240"/>
            <a:ext cx="114480" cy="165240"/>
          </a:xfrm>
          <a:custGeom>
            <a:avLst/>
            <a:gdLst/>
            <a:ahLst/>
            <a:rect l="l" t="t" r="r" b="b"/>
            <a:pathLst>
              <a:path w="72" h="104">
                <a:moveTo>
                  <a:pt x="0" y="104"/>
                </a:moveTo>
                <a:cubicBezTo>
                  <a:pt x="0" y="104"/>
                  <a:pt x="36" y="52"/>
                  <a:pt x="72" y="0"/>
                </a:cubicBezTo>
              </a:path>
            </a:pathLst>
          </a:custGeom>
          <a:noFill/>
          <a:ln w="63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3657600" y="3111480"/>
            <a:ext cx="2654280" cy="26542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555200" y="6148440"/>
            <a:ext cx="619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original circle event become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alse alar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 flipV="1">
            <a:off x="4368960" y="5833800"/>
            <a:ext cx="581040" cy="3920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4908600" y="5762520"/>
            <a:ext cx="139680" cy="1396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61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elete the potential circle event in the event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a new edge record in the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70560" indent="-5227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/>
          </p:nvPr>
        </p:nvSpPr>
        <p:spPr>
          <a:xfrm>
            <a:off x="520200" y="1980720"/>
            <a:ext cx="81406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to corresponding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ed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8" name=""/>
          <p:cNvCxnSpPr>
            <a:stCxn id="1285" idx="3"/>
            <a:endCxn id="128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9" name=""/>
          <p:cNvCxnSpPr>
            <a:stCxn id="1285" idx="5"/>
            <a:endCxn id="128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6" name=""/>
          <p:cNvCxnSpPr>
            <a:stCxn id="1286" idx="3"/>
            <a:endCxn id="129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7" name=""/>
          <p:cNvCxnSpPr>
            <a:stCxn id="1286" idx="5"/>
            <a:endCxn id="129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8" name=""/>
          <p:cNvCxnSpPr>
            <a:stCxn id="1287" idx="3"/>
            <a:endCxn id="129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99" name=""/>
          <p:cNvCxnSpPr>
            <a:stCxn id="1287" idx="5"/>
            <a:endCxn id="130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6" name=""/>
          <p:cNvCxnSpPr>
            <a:stCxn id="1321" idx="3"/>
            <a:endCxn id="132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27" name=""/>
          <p:cNvCxnSpPr>
            <a:stCxn id="1321" idx="5"/>
            <a:endCxn id="132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2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29" name=""/>
          <p:cNvCxnSpPr>
            <a:stCxn id="1300" idx="3"/>
            <a:endCxn id="132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0" name=""/>
          <p:cNvCxnSpPr>
            <a:stCxn id="1300" idx="4"/>
            <a:endCxn id="132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602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 vertex to corresponding edge recor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2463840" y="21970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8" name=""/>
          <p:cNvCxnSpPr>
            <a:stCxn id="1335" idx="3"/>
            <a:endCxn id="1336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39" name=""/>
          <p:cNvCxnSpPr>
            <a:stCxn id="1335" idx="5"/>
            <a:endCxn id="1337" idx="1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891520" y="223848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46" name=""/>
          <p:cNvCxnSpPr>
            <a:stCxn id="1336" idx="3"/>
            <a:endCxn id="134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7" name=""/>
          <p:cNvCxnSpPr>
            <a:stCxn id="1336" idx="5"/>
            <a:endCxn id="134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8" name=""/>
          <p:cNvCxnSpPr>
            <a:stCxn id="1337" idx="3"/>
            <a:endCxn id="134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49" name=""/>
          <p:cNvCxnSpPr>
            <a:stCxn id="1337" idx="5"/>
            <a:endCxn id="1350" idx="0"/>
          </p:cNvCxnSpPr>
          <p:nvPr/>
        </p:nvCxnSpPr>
        <p:spPr>
          <a:xfrm>
            <a:off x="2811600" y="2544480"/>
            <a:ext cx="32616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5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6311880" y="3936960"/>
            <a:ext cx="1079640" cy="25416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7467480" y="3987720"/>
            <a:ext cx="419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7353360" y="3935520"/>
            <a:ext cx="139680" cy="42840"/>
          </a:xfrm>
          <a:custGeom>
            <a:avLst/>
            <a:gdLst/>
            <a:ahLst/>
            <a:rect l="l" t="t" r="r" b="b"/>
            <a:pathLst>
              <a:path w="160" h="76">
                <a:moveTo>
                  <a:pt x="0" y="0"/>
                </a:moveTo>
                <a:cubicBezTo>
                  <a:pt x="34" y="26"/>
                  <a:pt x="69" y="52"/>
                  <a:pt x="96" y="64"/>
                </a:cubicBezTo>
                <a:cubicBezTo>
                  <a:pt x="123" y="76"/>
                  <a:pt x="141" y="74"/>
                  <a:pt x="16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7886880" y="3746520"/>
            <a:ext cx="74916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2933640" y="299736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3198960" y="26827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6" name=""/>
          <p:cNvCxnSpPr>
            <a:stCxn id="1371" idx="3"/>
            <a:endCxn id="1372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77" name=""/>
          <p:cNvCxnSpPr>
            <a:stCxn id="1371" idx="5"/>
            <a:endCxn id="1373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78" name=""/>
          <p:cNvSpPr/>
          <p:nvPr/>
        </p:nvSpPr>
        <p:spPr>
          <a:xfrm>
            <a:off x="1739880" y="5486400"/>
            <a:ext cx="432000" cy="43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9" name=""/>
          <p:cNvCxnSpPr>
            <a:stCxn id="1350" idx="3"/>
            <a:endCxn id="1378" idx="0"/>
          </p:cNvCxnSpPr>
          <p:nvPr/>
        </p:nvCxnSpPr>
        <p:spPr>
          <a:xfrm flipH="1">
            <a:off x="1955160" y="3344400"/>
            <a:ext cx="1037160" cy="2142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80" name=""/>
          <p:cNvCxnSpPr>
            <a:stCxn id="1350" idx="4"/>
            <a:endCxn id="1371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1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366920" y="1895400"/>
            <a:ext cx="3217680" cy="4146480"/>
          </a:xfrm>
          <a:custGeom>
            <a:avLst/>
            <a:gdLst/>
            <a:ahLst/>
            <a:rect l="l" t="t" r="r" b="b"/>
            <a:pathLst>
              <a:path w="2027" h="2612">
                <a:moveTo>
                  <a:pt x="939" y="46"/>
                </a:moveTo>
                <a:cubicBezTo>
                  <a:pt x="670" y="55"/>
                  <a:pt x="745" y="0"/>
                  <a:pt x="651" y="118"/>
                </a:cubicBezTo>
                <a:cubicBezTo>
                  <a:pt x="649" y="125"/>
                  <a:pt x="628" y="187"/>
                  <a:pt x="627" y="190"/>
                </a:cubicBezTo>
                <a:cubicBezTo>
                  <a:pt x="620" y="211"/>
                  <a:pt x="611" y="254"/>
                  <a:pt x="611" y="254"/>
                </a:cubicBezTo>
                <a:cubicBezTo>
                  <a:pt x="616" y="296"/>
                  <a:pt x="617" y="411"/>
                  <a:pt x="651" y="462"/>
                </a:cubicBezTo>
                <a:cubicBezTo>
                  <a:pt x="695" y="528"/>
                  <a:pt x="766" y="571"/>
                  <a:pt x="811" y="638"/>
                </a:cubicBezTo>
                <a:cubicBezTo>
                  <a:pt x="828" y="723"/>
                  <a:pt x="834" y="820"/>
                  <a:pt x="803" y="902"/>
                </a:cubicBezTo>
                <a:cubicBezTo>
                  <a:pt x="785" y="950"/>
                  <a:pt x="752" y="995"/>
                  <a:pt x="723" y="1038"/>
                </a:cubicBezTo>
                <a:cubicBezTo>
                  <a:pt x="718" y="1045"/>
                  <a:pt x="720" y="1055"/>
                  <a:pt x="715" y="1062"/>
                </a:cubicBezTo>
                <a:cubicBezTo>
                  <a:pt x="690" y="1100"/>
                  <a:pt x="692" y="1071"/>
                  <a:pt x="675" y="1110"/>
                </a:cubicBezTo>
                <a:cubicBezTo>
                  <a:pt x="649" y="1170"/>
                  <a:pt x="628" y="1229"/>
                  <a:pt x="595" y="1286"/>
                </a:cubicBezTo>
                <a:cubicBezTo>
                  <a:pt x="574" y="1322"/>
                  <a:pt x="548" y="1350"/>
                  <a:pt x="523" y="1382"/>
                </a:cubicBezTo>
                <a:cubicBezTo>
                  <a:pt x="488" y="1427"/>
                  <a:pt x="456" y="1486"/>
                  <a:pt x="427" y="1534"/>
                </a:cubicBezTo>
                <a:cubicBezTo>
                  <a:pt x="418" y="1549"/>
                  <a:pt x="399" y="1554"/>
                  <a:pt x="387" y="1566"/>
                </a:cubicBezTo>
                <a:cubicBezTo>
                  <a:pt x="359" y="1596"/>
                  <a:pt x="326" y="1625"/>
                  <a:pt x="307" y="1662"/>
                </a:cubicBezTo>
                <a:cubicBezTo>
                  <a:pt x="283" y="1710"/>
                  <a:pt x="252" y="1751"/>
                  <a:pt x="227" y="1798"/>
                </a:cubicBezTo>
                <a:cubicBezTo>
                  <a:pt x="190" y="1867"/>
                  <a:pt x="164" y="1949"/>
                  <a:pt x="107" y="2006"/>
                </a:cubicBezTo>
                <a:cubicBezTo>
                  <a:pt x="83" y="2065"/>
                  <a:pt x="64" y="2133"/>
                  <a:pt x="35" y="2190"/>
                </a:cubicBezTo>
                <a:cubicBezTo>
                  <a:pt x="30" y="2217"/>
                  <a:pt x="24" y="2243"/>
                  <a:pt x="19" y="2270"/>
                </a:cubicBezTo>
                <a:cubicBezTo>
                  <a:pt x="15" y="2292"/>
                  <a:pt x="3" y="2334"/>
                  <a:pt x="3" y="2334"/>
                </a:cubicBezTo>
                <a:cubicBezTo>
                  <a:pt x="8" y="2415"/>
                  <a:pt x="0" y="2555"/>
                  <a:pt x="107" y="2582"/>
                </a:cubicBezTo>
                <a:cubicBezTo>
                  <a:pt x="138" y="2590"/>
                  <a:pt x="172" y="2588"/>
                  <a:pt x="203" y="2598"/>
                </a:cubicBezTo>
                <a:cubicBezTo>
                  <a:pt x="211" y="2601"/>
                  <a:pt x="219" y="2603"/>
                  <a:pt x="227" y="2606"/>
                </a:cubicBezTo>
                <a:cubicBezTo>
                  <a:pt x="343" y="2601"/>
                  <a:pt x="394" y="2612"/>
                  <a:pt x="483" y="2582"/>
                </a:cubicBezTo>
                <a:cubicBezTo>
                  <a:pt x="572" y="2493"/>
                  <a:pt x="604" y="2412"/>
                  <a:pt x="643" y="2294"/>
                </a:cubicBezTo>
                <a:cubicBezTo>
                  <a:pt x="655" y="2099"/>
                  <a:pt x="658" y="1895"/>
                  <a:pt x="747" y="1718"/>
                </a:cubicBezTo>
                <a:cubicBezTo>
                  <a:pt x="761" y="1649"/>
                  <a:pt x="771" y="1586"/>
                  <a:pt x="811" y="1526"/>
                </a:cubicBezTo>
                <a:cubicBezTo>
                  <a:pt x="831" y="1447"/>
                  <a:pt x="915" y="1409"/>
                  <a:pt x="971" y="1358"/>
                </a:cubicBezTo>
                <a:cubicBezTo>
                  <a:pt x="991" y="1340"/>
                  <a:pt x="1005" y="1317"/>
                  <a:pt x="1027" y="1302"/>
                </a:cubicBezTo>
                <a:cubicBezTo>
                  <a:pt x="1112" y="1246"/>
                  <a:pt x="1208" y="1191"/>
                  <a:pt x="1307" y="1166"/>
                </a:cubicBezTo>
                <a:cubicBezTo>
                  <a:pt x="1357" y="1133"/>
                  <a:pt x="1419" y="1122"/>
                  <a:pt x="1475" y="1102"/>
                </a:cubicBezTo>
                <a:cubicBezTo>
                  <a:pt x="1534" y="1081"/>
                  <a:pt x="1572" y="1055"/>
                  <a:pt x="1627" y="1030"/>
                </a:cubicBezTo>
                <a:cubicBezTo>
                  <a:pt x="1678" y="1007"/>
                  <a:pt x="1731" y="1006"/>
                  <a:pt x="1787" y="998"/>
                </a:cubicBezTo>
                <a:cubicBezTo>
                  <a:pt x="1828" y="974"/>
                  <a:pt x="1868" y="952"/>
                  <a:pt x="1907" y="926"/>
                </a:cubicBezTo>
                <a:cubicBezTo>
                  <a:pt x="1916" y="920"/>
                  <a:pt x="1922" y="909"/>
                  <a:pt x="1931" y="902"/>
                </a:cubicBezTo>
                <a:cubicBezTo>
                  <a:pt x="1946" y="890"/>
                  <a:pt x="1979" y="870"/>
                  <a:pt x="1979" y="870"/>
                </a:cubicBezTo>
                <a:cubicBezTo>
                  <a:pt x="1996" y="844"/>
                  <a:pt x="2017" y="828"/>
                  <a:pt x="2027" y="798"/>
                </a:cubicBezTo>
                <a:cubicBezTo>
                  <a:pt x="2024" y="745"/>
                  <a:pt x="2023" y="691"/>
                  <a:pt x="2019" y="638"/>
                </a:cubicBezTo>
                <a:cubicBezTo>
                  <a:pt x="2016" y="598"/>
                  <a:pt x="1994" y="568"/>
                  <a:pt x="1979" y="534"/>
                </a:cubicBezTo>
                <a:cubicBezTo>
                  <a:pt x="1964" y="501"/>
                  <a:pt x="1961" y="463"/>
                  <a:pt x="1947" y="430"/>
                </a:cubicBezTo>
                <a:cubicBezTo>
                  <a:pt x="1935" y="401"/>
                  <a:pt x="1874" y="349"/>
                  <a:pt x="1867" y="342"/>
                </a:cubicBezTo>
                <a:cubicBezTo>
                  <a:pt x="1798" y="273"/>
                  <a:pt x="1728" y="229"/>
                  <a:pt x="1643" y="182"/>
                </a:cubicBezTo>
                <a:cubicBezTo>
                  <a:pt x="1596" y="156"/>
                  <a:pt x="1561" y="124"/>
                  <a:pt x="1507" y="110"/>
                </a:cubicBezTo>
                <a:cubicBezTo>
                  <a:pt x="1403" y="41"/>
                  <a:pt x="1209" y="51"/>
                  <a:pt x="1099" y="46"/>
                </a:cubicBezTo>
                <a:cubicBezTo>
                  <a:pt x="1003" y="34"/>
                  <a:pt x="1056" y="36"/>
                  <a:pt x="939" y="46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 flipV="1">
            <a:off x="2705040" y="1587240"/>
            <a:ext cx="1498680" cy="8636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4229280" y="1333440"/>
            <a:ext cx="19810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H="1" flipV="1">
            <a:off x="6032520" y="1942920"/>
            <a:ext cx="1371600" cy="20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V="1">
            <a:off x="3187800" y="2018880"/>
            <a:ext cx="3454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629400" y="1308240"/>
            <a:ext cx="1981080" cy="7491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Edge Reco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 flipV="1">
            <a:off x="7467480" y="2006280"/>
            <a:ext cx="851040" cy="19810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067440" y="94140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nk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3" name=""/>
          <p:cNvCxnSpPr/>
          <p:nvPr/>
        </p:nvCxnSpPr>
        <p:spPr>
          <a:xfrm>
            <a:off x="6210360" y="1600200"/>
            <a:ext cx="419760" cy="720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394" name=""/>
          <p:cNvCxnSpPr/>
          <p:nvPr/>
        </p:nvCxnSpPr>
        <p:spPr>
          <a:xfrm>
            <a:off x="6210360" y="1765080"/>
            <a:ext cx="419760" cy="684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sites form a perpendicular bisect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30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03000" y="4572000"/>
            <a:ext cx="3368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ronoi Diagram is a 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at extends infinitely i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th directions, and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half planes on eithe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98" name=""/>
          <p:cNvCxnSpPr>
            <a:stCxn id="1396" idx="3"/>
            <a:endCxn id="1397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99" name=""/>
          <p:cNvCxnSpPr>
            <a:stCxn id="1396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0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5" name=""/>
          <p:cNvCxnSpPr>
            <a:stCxn id="1397" idx="3"/>
            <a:endCxn id="1400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6" name=""/>
          <p:cNvCxnSpPr>
            <a:stCxn id="1397" idx="5"/>
            <a:endCxn id="1401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07" name=""/>
          <p:cNvCxnSpPr>
            <a:endCxn id="1402" idx="0"/>
          </p:cNvCxnSpPr>
          <p:nvPr/>
        </p:nvCxnSpPr>
        <p:spPr>
          <a:xfrm flipH="1">
            <a:off x="2260080" y="2544480"/>
            <a:ext cx="26280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0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4762440" y="46990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311880" y="3962520"/>
            <a:ext cx="111780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429680" y="3987720"/>
            <a:ext cx="48240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933640" y="415296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514600" y="546084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365640" y="543564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148200" y="378792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1" name=""/>
          <p:cNvCxnSpPr>
            <a:stCxn id="1427" idx="3"/>
            <a:endCxn id="1428" idx="0"/>
          </p:cNvCxnSpPr>
          <p:nvPr/>
        </p:nvCxnSpPr>
        <p:spPr>
          <a:xfrm flipH="1">
            <a:off x="2730240" y="4500360"/>
            <a:ext cx="262080" cy="960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2" name=""/>
          <p:cNvCxnSpPr>
            <a:stCxn id="1427" idx="5"/>
            <a:endCxn id="1429" idx="0"/>
          </p:cNvCxnSpPr>
          <p:nvPr/>
        </p:nvCxnSpPr>
        <p:spPr>
          <a:xfrm>
            <a:off x="3281040" y="4500360"/>
            <a:ext cx="300600" cy="935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33" name=""/>
          <p:cNvCxnSpPr>
            <a:endCxn id="1427" idx="0"/>
          </p:cNvCxnSpPr>
          <p:nvPr/>
        </p:nvCxnSpPr>
        <p:spPr>
          <a:xfrm>
            <a:off x="3136680" y="3403440"/>
            <a:ext cx="1080" cy="750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4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leting disappearing ar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39" name=""/>
          <p:cNvCxnSpPr>
            <a:stCxn id="1437" idx="3"/>
            <a:endCxn id="143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0" name=""/>
          <p:cNvCxnSpPr>
            <a:stCxn id="143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6" name=""/>
          <p:cNvCxnSpPr>
            <a:stCxn id="1438" idx="3"/>
            <a:endCxn id="144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47" name=""/>
          <p:cNvCxnSpPr>
            <a:stCxn id="1438" idx="5"/>
            <a:endCxn id="144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4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1" name=""/>
          <p:cNvCxnSpPr>
            <a:stCxn id="1467" idx="3"/>
            <a:endCxn id="1468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2" name=""/>
          <p:cNvCxnSpPr>
            <a:stCxn id="1467" idx="5"/>
            <a:endCxn id="1469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73" name=""/>
          <p:cNvCxnSpPr>
            <a:stCxn id="1474" idx="5"/>
            <a:endCxn id="1467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5" name=""/>
          <p:cNvSpPr/>
          <p:nvPr/>
        </p:nvSpPr>
        <p:spPr>
          <a:xfrm>
            <a:off x="6743880" y="3352680"/>
            <a:ext cx="1282680" cy="128268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7327800" y="4572000"/>
            <a:ext cx="152640" cy="152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7" name=""/>
          <p:cNvCxnSpPr>
            <a:stCxn id="1474" idx="3"/>
            <a:endCxn id="144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7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eate new edge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2" name=""/>
          <p:cNvCxnSpPr>
            <a:stCxn id="1480" idx="3"/>
            <a:endCxn id="1481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83" name=""/>
          <p:cNvCxnSpPr>
            <a:stCxn id="1480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84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9" name=""/>
          <p:cNvCxnSpPr>
            <a:stCxn id="1481" idx="3"/>
            <a:endCxn id="1484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90" name=""/>
          <p:cNvCxnSpPr>
            <a:stCxn id="1481" idx="5"/>
            <a:endCxn id="1485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1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4" name=""/>
          <p:cNvCxnSpPr>
            <a:stCxn id="1510" idx="3"/>
            <a:endCxn id="1511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5" name=""/>
          <p:cNvCxnSpPr>
            <a:stCxn id="1510" idx="5"/>
            <a:endCxn id="1512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16" name=""/>
          <p:cNvCxnSpPr>
            <a:stCxn id="1517" idx="5"/>
            <a:endCxn id="1510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7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18" name=""/>
          <p:cNvCxnSpPr>
            <a:stCxn id="1517" idx="3"/>
            <a:endCxn id="1486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19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283360" y="1523880"/>
            <a:ext cx="2565360" cy="787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Half Edge Rec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points.add(x, 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 flipV="1">
            <a:off x="2705040" y="1866600"/>
            <a:ext cx="2514600" cy="584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 flipV="1">
            <a:off x="7023240" y="2171880"/>
            <a:ext cx="380880" cy="1854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966760" y="5489640"/>
            <a:ext cx="46962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 new edge is traced out by the new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reak point &lt;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26" name=""/>
          <p:cNvCxnSpPr/>
          <p:nvPr/>
        </p:nvCxnSpPr>
        <p:spPr>
          <a:xfrm flipH="1" flipV="1" rot="5400000">
            <a:off x="5646240" y="4341240"/>
            <a:ext cx="1071000" cy="1200600"/>
          </a:xfrm>
          <a:prstGeom prst="curvedConnector2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27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eck the new triplets for potential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1" name=""/>
          <p:cNvCxnSpPr>
            <a:stCxn id="1529" idx="3"/>
            <a:endCxn id="1530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2" name=""/>
          <p:cNvCxnSpPr>
            <a:stCxn id="1529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33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38" name=""/>
          <p:cNvCxnSpPr>
            <a:stCxn id="1530" idx="3"/>
            <a:endCxn id="1533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39" name=""/>
          <p:cNvCxnSpPr>
            <a:stCxn id="1530" idx="5"/>
            <a:endCxn id="1534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40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4521240" y="468648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4660920" y="47242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8318520" y="471168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8456040" y="43848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4495680" y="3975120"/>
            <a:ext cx="1028880" cy="115920"/>
          </a:xfrm>
          <a:custGeom>
            <a:avLst/>
            <a:gdLst/>
            <a:ahLst/>
            <a:rect l="l" t="t" r="r" b="b"/>
            <a:pathLst>
              <a:path w="696" h="140">
                <a:moveTo>
                  <a:pt x="0" y="0"/>
                </a:moveTo>
                <a:cubicBezTo>
                  <a:pt x="134" y="66"/>
                  <a:pt x="268" y="132"/>
                  <a:pt x="384" y="136"/>
                </a:cubicBezTo>
                <a:cubicBezTo>
                  <a:pt x="500" y="140"/>
                  <a:pt x="598" y="82"/>
                  <a:pt x="696" y="2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5486400" y="3936960"/>
            <a:ext cx="838080" cy="360360"/>
          </a:xfrm>
          <a:custGeom>
            <a:avLst/>
            <a:gdLst/>
            <a:ahLst/>
            <a:rect l="l" t="t" r="r" b="b"/>
            <a:pathLst>
              <a:path w="376" h="41">
                <a:moveTo>
                  <a:pt x="0" y="8"/>
                </a:moveTo>
                <a:cubicBezTo>
                  <a:pt x="60" y="24"/>
                  <a:pt x="121" y="41"/>
                  <a:pt x="184" y="40"/>
                </a:cubicBezTo>
                <a:cubicBezTo>
                  <a:pt x="247" y="39"/>
                  <a:pt x="311" y="19"/>
                  <a:pt x="376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6311880" y="3962520"/>
            <a:ext cx="1104840" cy="228600"/>
          </a:xfrm>
          <a:custGeom>
            <a:avLst/>
            <a:gdLst/>
            <a:ahLst/>
            <a:rect l="l" t="t" r="r" b="b"/>
            <a:pathLst>
              <a:path w="720" h="216">
                <a:moveTo>
                  <a:pt x="0" y="0"/>
                </a:moveTo>
                <a:cubicBezTo>
                  <a:pt x="122" y="100"/>
                  <a:pt x="245" y="200"/>
                  <a:pt x="360" y="208"/>
                </a:cubicBezTo>
                <a:cubicBezTo>
                  <a:pt x="475" y="216"/>
                  <a:pt x="656" y="59"/>
                  <a:pt x="688" y="48"/>
                </a:cubicBezTo>
                <a:cubicBezTo>
                  <a:pt x="720" y="37"/>
                  <a:pt x="636" y="90"/>
                  <a:pt x="552" y="144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7404120" y="3987720"/>
            <a:ext cx="558720" cy="63684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7924680" y="3772080"/>
            <a:ext cx="749520" cy="228600"/>
          </a:xfrm>
          <a:custGeom>
            <a:avLst/>
            <a:gdLst/>
            <a:ahLst/>
            <a:rect l="l" t="t" r="r" b="b"/>
            <a:pathLst>
              <a:path w="472" h="256">
                <a:moveTo>
                  <a:pt x="0" y="256"/>
                </a:moveTo>
                <a:cubicBezTo>
                  <a:pt x="88" y="225"/>
                  <a:pt x="177" y="195"/>
                  <a:pt x="256" y="152"/>
                </a:cubicBezTo>
                <a:cubicBezTo>
                  <a:pt x="335" y="109"/>
                  <a:pt x="437" y="25"/>
                  <a:pt x="472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3" name=""/>
          <p:cNvCxnSpPr>
            <a:stCxn id="1559" idx="3"/>
            <a:endCxn id="1560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4" name=""/>
          <p:cNvCxnSpPr>
            <a:stCxn id="1559" idx="5"/>
            <a:endCxn id="1561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65" name=""/>
          <p:cNvCxnSpPr>
            <a:stCxn id="1566" idx="5"/>
            <a:endCxn id="1559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6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7" name=""/>
          <p:cNvCxnSpPr>
            <a:stCxn id="1566" idx="3"/>
            <a:endCxn id="1535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68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 flipH="1">
            <a:off x="6540120" y="4013280"/>
            <a:ext cx="863640" cy="91440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8" name=""/>
          <p:cNvCxnSpPr>
            <a:stCxn id="1573" idx="3"/>
          </p:cNvCxnSpPr>
          <p:nvPr/>
        </p:nvCxnSpPr>
        <p:spPr>
          <a:xfrm flipV="1" rot="16200000">
            <a:off x="4486680" y="4071960"/>
            <a:ext cx="231120" cy="3820320"/>
          </a:xfrm>
          <a:prstGeom prst="curvedConnector5">
            <a:avLst>
              <a:gd name="adj1" fmla="val -109516"/>
              <a:gd name="adj2" fmla="val 25143"/>
              <a:gd name="adj3" fmla="val -109516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79" name=""/>
          <p:cNvSpPr/>
          <p:nvPr/>
        </p:nvSpPr>
        <p:spPr>
          <a:xfrm>
            <a:off x="1879560" y="5651640"/>
            <a:ext cx="774720" cy="393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179360" y="55656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1" name=""/>
          <p:cNvCxnSpPr>
            <a:stCxn id="1535" idx="2"/>
            <a:endCxn id="1579" idx="0"/>
          </p:cNvCxnSpPr>
          <p:nvPr/>
        </p:nvCxnSpPr>
        <p:spPr>
          <a:xfrm flipH="1" rot="16200000">
            <a:off x="1152360" y="4536720"/>
            <a:ext cx="2223360" cy="7200"/>
          </a:xfrm>
          <a:prstGeom prst="curvedConnector5">
            <a:avLst>
              <a:gd name="adj1" fmla="val 49991"/>
              <a:gd name="adj2" fmla="val 47368"/>
              <a:gd name="adj3" fmla="val 49991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582" name=""/>
          <p:cNvSpPr/>
          <p:nvPr/>
        </p:nvSpPr>
        <p:spPr>
          <a:xfrm>
            <a:off x="1887120" y="6060960"/>
            <a:ext cx="216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new circle ev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6286680" y="3759120"/>
            <a:ext cx="266400" cy="1168560"/>
          </a:xfrm>
          <a:prstGeom prst="line">
            <a:avLst/>
          </a:prstGeom>
          <a:ln w="255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nor D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gorithm terminates when Q =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ut the beach line and its break points continue to trace the Voronoi ed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rminate these “half-infinite” edges via a bounding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89" name=""/>
          <p:cNvCxnSpPr>
            <a:stCxn id="1587" idx="3"/>
            <a:endCxn id="1588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0" name=""/>
          <p:cNvCxnSpPr>
            <a:stCxn id="1587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1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04480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91600" y="1362240"/>
            <a:ext cx="1184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6" name=""/>
          <p:cNvCxnSpPr>
            <a:stCxn id="1588" idx="3"/>
            <a:endCxn id="1591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597" name=""/>
          <p:cNvCxnSpPr>
            <a:stCxn id="1588" idx="5"/>
            <a:endCxn id="1592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598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2832120" y="304812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2413080" y="4356000"/>
            <a:ext cx="43164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3263760" y="4330800"/>
            <a:ext cx="432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3148200" y="27590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17" name=""/>
          <p:cNvCxnSpPr>
            <a:stCxn id="1613" idx="3"/>
            <a:endCxn id="1614" idx="0"/>
          </p:cNvCxnSpPr>
          <p:nvPr/>
        </p:nvCxnSpPr>
        <p:spPr>
          <a:xfrm flipH="1">
            <a:off x="2628720" y="3395520"/>
            <a:ext cx="26208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8" name=""/>
          <p:cNvCxnSpPr>
            <a:stCxn id="1613" idx="5"/>
            <a:endCxn id="1615" idx="0"/>
          </p:cNvCxnSpPr>
          <p:nvPr/>
        </p:nvCxnSpPr>
        <p:spPr>
          <a:xfrm>
            <a:off x="3179520" y="339552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19" name=""/>
          <p:cNvCxnSpPr>
            <a:stCxn id="1620" idx="5"/>
            <a:endCxn id="1613" idx="0"/>
          </p:cNvCxnSpPr>
          <p:nvPr/>
        </p:nvCxnSpPr>
        <p:spPr>
          <a:xfrm>
            <a:off x="2786040" y="2595240"/>
            <a:ext cx="24984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0" name=""/>
          <p:cNvSpPr/>
          <p:nvPr/>
        </p:nvSpPr>
        <p:spPr>
          <a:xfrm>
            <a:off x="2438280" y="224784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1" name=""/>
          <p:cNvCxnSpPr>
            <a:stCxn id="1620" idx="3"/>
            <a:endCxn id="1593" idx="0"/>
          </p:cNvCxnSpPr>
          <p:nvPr/>
        </p:nvCxnSpPr>
        <p:spPr>
          <a:xfrm flipH="1">
            <a:off x="2259720" y="2595600"/>
            <a:ext cx="237240" cy="402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22" name=""/>
          <p:cNvSpPr/>
          <p:nvPr/>
        </p:nvSpPr>
        <p:spPr>
          <a:xfrm>
            <a:off x="2870640" y="2238480"/>
            <a:ext cx="1263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317840" y="46227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1866960" y="1882800"/>
            <a:ext cx="2414520" cy="1749240"/>
          </a:xfrm>
          <a:custGeom>
            <a:avLst/>
            <a:gdLst/>
            <a:ahLst/>
            <a:rect l="l" t="t" r="r" b="b"/>
            <a:pathLst>
              <a:path w="1521" h="1102">
                <a:moveTo>
                  <a:pt x="856" y="14"/>
                </a:moveTo>
                <a:cubicBezTo>
                  <a:pt x="776" y="30"/>
                  <a:pt x="691" y="45"/>
                  <a:pt x="616" y="78"/>
                </a:cubicBezTo>
                <a:cubicBezTo>
                  <a:pt x="557" y="104"/>
                  <a:pt x="518" y="149"/>
                  <a:pt x="472" y="190"/>
                </a:cubicBezTo>
                <a:cubicBezTo>
                  <a:pt x="434" y="224"/>
                  <a:pt x="389" y="259"/>
                  <a:pt x="360" y="302"/>
                </a:cubicBezTo>
                <a:cubicBezTo>
                  <a:pt x="316" y="368"/>
                  <a:pt x="294" y="448"/>
                  <a:pt x="224" y="494"/>
                </a:cubicBezTo>
                <a:cubicBezTo>
                  <a:pt x="183" y="556"/>
                  <a:pt x="154" y="625"/>
                  <a:pt x="112" y="686"/>
                </a:cubicBezTo>
                <a:cubicBezTo>
                  <a:pt x="101" y="702"/>
                  <a:pt x="91" y="718"/>
                  <a:pt x="80" y="734"/>
                </a:cubicBezTo>
                <a:cubicBezTo>
                  <a:pt x="65" y="756"/>
                  <a:pt x="32" y="798"/>
                  <a:pt x="32" y="798"/>
                </a:cubicBezTo>
                <a:cubicBezTo>
                  <a:pt x="16" y="845"/>
                  <a:pt x="7" y="884"/>
                  <a:pt x="0" y="934"/>
                </a:cubicBezTo>
                <a:cubicBezTo>
                  <a:pt x="9" y="1021"/>
                  <a:pt x="14" y="1072"/>
                  <a:pt x="104" y="1102"/>
                </a:cubicBezTo>
                <a:cubicBezTo>
                  <a:pt x="152" y="1099"/>
                  <a:pt x="200" y="1100"/>
                  <a:pt x="248" y="1094"/>
                </a:cubicBezTo>
                <a:cubicBezTo>
                  <a:pt x="304" y="1086"/>
                  <a:pt x="367" y="1015"/>
                  <a:pt x="408" y="974"/>
                </a:cubicBezTo>
                <a:cubicBezTo>
                  <a:pt x="424" y="927"/>
                  <a:pt x="460" y="891"/>
                  <a:pt x="480" y="846"/>
                </a:cubicBezTo>
                <a:cubicBezTo>
                  <a:pt x="524" y="747"/>
                  <a:pt x="461" y="850"/>
                  <a:pt x="528" y="750"/>
                </a:cubicBezTo>
                <a:cubicBezTo>
                  <a:pt x="540" y="732"/>
                  <a:pt x="575" y="720"/>
                  <a:pt x="592" y="710"/>
                </a:cubicBezTo>
                <a:cubicBezTo>
                  <a:pt x="630" y="688"/>
                  <a:pt x="670" y="676"/>
                  <a:pt x="712" y="662"/>
                </a:cubicBezTo>
                <a:cubicBezTo>
                  <a:pt x="739" y="653"/>
                  <a:pt x="764" y="631"/>
                  <a:pt x="792" y="622"/>
                </a:cubicBezTo>
                <a:cubicBezTo>
                  <a:pt x="898" y="543"/>
                  <a:pt x="1049" y="565"/>
                  <a:pt x="1176" y="542"/>
                </a:cubicBezTo>
                <a:cubicBezTo>
                  <a:pt x="1222" y="523"/>
                  <a:pt x="1264" y="502"/>
                  <a:pt x="1312" y="486"/>
                </a:cubicBezTo>
                <a:cubicBezTo>
                  <a:pt x="1350" y="473"/>
                  <a:pt x="1415" y="469"/>
                  <a:pt x="1456" y="462"/>
                </a:cubicBezTo>
                <a:cubicBezTo>
                  <a:pt x="1499" y="441"/>
                  <a:pt x="1502" y="427"/>
                  <a:pt x="1520" y="382"/>
                </a:cubicBezTo>
                <a:cubicBezTo>
                  <a:pt x="1516" y="358"/>
                  <a:pt x="1521" y="327"/>
                  <a:pt x="1504" y="310"/>
                </a:cubicBezTo>
                <a:cubicBezTo>
                  <a:pt x="1434" y="240"/>
                  <a:pt x="1304" y="242"/>
                  <a:pt x="1216" y="222"/>
                </a:cubicBezTo>
                <a:cubicBezTo>
                  <a:pt x="1176" y="213"/>
                  <a:pt x="1143" y="192"/>
                  <a:pt x="1104" y="182"/>
                </a:cubicBezTo>
                <a:cubicBezTo>
                  <a:pt x="1062" y="154"/>
                  <a:pt x="1099" y="174"/>
                  <a:pt x="1040" y="158"/>
                </a:cubicBezTo>
                <a:cubicBezTo>
                  <a:pt x="1024" y="154"/>
                  <a:pt x="992" y="142"/>
                  <a:pt x="992" y="142"/>
                </a:cubicBezTo>
                <a:cubicBezTo>
                  <a:pt x="953" y="91"/>
                  <a:pt x="968" y="62"/>
                  <a:pt x="904" y="30"/>
                </a:cubicBezTo>
                <a:cubicBezTo>
                  <a:pt x="893" y="24"/>
                  <a:pt x="856" y="0"/>
                  <a:pt x="856" y="14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5" name=""/>
          <p:cNvCxnSpPr>
            <a:stCxn id="1643" idx="3"/>
            <a:endCxn id="164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46" name=""/>
          <p:cNvCxnSpPr>
            <a:stCxn id="164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4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1" name=""/>
          <p:cNvCxnSpPr>
            <a:stCxn id="1644" idx="3"/>
            <a:endCxn id="164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52" name=""/>
          <p:cNvCxnSpPr>
            <a:stCxn id="1644" idx="5"/>
            <a:endCxn id="164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5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4521240" y="615960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660920" y="6197760"/>
            <a:ext cx="0" cy="355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8318520" y="6184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603840" y="4915080"/>
            <a:ext cx="2248200" cy="1792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72" name=""/>
          <p:cNvCxnSpPr>
            <a:stCxn id="1668" idx="3"/>
            <a:endCxn id="166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73" name=""/>
          <p:cNvCxnSpPr>
            <a:stCxn id="1668" idx="5"/>
            <a:endCxn id="167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7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5410080" y="3708360"/>
            <a:ext cx="2298960" cy="2298600"/>
          </a:xfrm>
          <a:prstGeom prst="ellipse">
            <a:avLst/>
          </a:prstGeom>
          <a:noFill/>
          <a:ln w="63360">
            <a:solidFill>
              <a:srgbClr val="3366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6489720" y="5956200"/>
            <a:ext cx="152280" cy="16524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4483080" y="2629080"/>
            <a:ext cx="1638360" cy="23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6413400" y="1549440"/>
            <a:ext cx="965160" cy="250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4724280" y="4686480"/>
            <a:ext cx="189252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4317840" y="4635360"/>
            <a:ext cx="393840" cy="763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60240" y="177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lgorithm Term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1625760" y="1422360"/>
            <a:ext cx="40608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774720" y="2209680"/>
            <a:ext cx="406440" cy="406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95" name=""/>
          <p:cNvCxnSpPr>
            <a:stCxn id="1693" idx="3"/>
            <a:endCxn id="1694" idx="7"/>
          </p:cNvCxnSpPr>
          <p:nvPr/>
        </p:nvCxnSpPr>
        <p:spPr>
          <a:xfrm flipH="1">
            <a:off x="1121760" y="1770120"/>
            <a:ext cx="562680" cy="498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696" name=""/>
          <p:cNvCxnSpPr>
            <a:stCxn id="1693" idx="5"/>
          </p:cNvCxnSpPr>
          <p:nvPr/>
        </p:nvCxnSpPr>
        <p:spPr>
          <a:xfrm>
            <a:off x="1973160" y="1769760"/>
            <a:ext cx="550080" cy="486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697" name=""/>
          <p:cNvSpPr/>
          <p:nvPr/>
        </p:nvSpPr>
        <p:spPr>
          <a:xfrm>
            <a:off x="355680" y="29973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206360" y="298440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2094120" y="136224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200240" y="2225520"/>
            <a:ext cx="1155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1" name=""/>
          <p:cNvCxnSpPr>
            <a:stCxn id="1694" idx="3"/>
            <a:endCxn id="1697" idx="0"/>
          </p:cNvCxnSpPr>
          <p:nvPr/>
        </p:nvCxnSpPr>
        <p:spPr>
          <a:xfrm flipH="1">
            <a:off x="571320" y="2557440"/>
            <a:ext cx="262080" cy="440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02" name=""/>
          <p:cNvCxnSpPr>
            <a:stCxn id="1694" idx="5"/>
            <a:endCxn id="1698" idx="0"/>
          </p:cNvCxnSpPr>
          <p:nvPr/>
        </p:nvCxnSpPr>
        <p:spPr>
          <a:xfrm>
            <a:off x="1122120" y="2557440"/>
            <a:ext cx="30060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03" name=""/>
          <p:cNvSpPr/>
          <p:nvPr/>
        </p:nvSpPr>
        <p:spPr>
          <a:xfrm>
            <a:off x="7632720" y="444492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6718320" y="364500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81960" y="33274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5829480" y="3772080"/>
            <a:ext cx="152280" cy="1648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4940280" y="3263760"/>
            <a:ext cx="152280" cy="165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4701960" y="283536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5412960" y="3432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6570720" y="3089160"/>
            <a:ext cx="410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7800480" y="300024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4521240" y="6362640"/>
            <a:ext cx="401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4660920" y="64008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8318520" y="6388200"/>
            <a:ext cx="0" cy="355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8456040" y="585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7894080" y="4105440"/>
            <a:ext cx="461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6451560" y="5283360"/>
            <a:ext cx="2400480" cy="166680"/>
          </a:xfrm>
          <a:custGeom>
            <a:avLst/>
            <a:gdLst/>
            <a:ahLst/>
            <a:rect l="l" t="t" r="r" b="b"/>
            <a:pathLst>
              <a:path w="184" h="505">
                <a:moveTo>
                  <a:pt x="0" y="8"/>
                </a:moveTo>
                <a:cubicBezTo>
                  <a:pt x="32" y="256"/>
                  <a:pt x="65" y="505"/>
                  <a:pt x="96" y="504"/>
                </a:cubicBezTo>
                <a:cubicBezTo>
                  <a:pt x="127" y="503"/>
                  <a:pt x="155" y="251"/>
                  <a:pt x="184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2489040" y="2171880"/>
            <a:ext cx="406440" cy="406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2070000" y="3479760"/>
            <a:ext cx="432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2921040" y="3454560"/>
            <a:ext cx="43164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2805120" y="1882800"/>
            <a:ext cx="1234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2" name=""/>
          <p:cNvCxnSpPr>
            <a:stCxn id="1718" idx="3"/>
            <a:endCxn id="1719" idx="0"/>
          </p:cNvCxnSpPr>
          <p:nvPr/>
        </p:nvCxnSpPr>
        <p:spPr>
          <a:xfrm flipH="1">
            <a:off x="2285640" y="2519280"/>
            <a:ext cx="262800" cy="9612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723" name=""/>
          <p:cNvCxnSpPr>
            <a:stCxn id="1718" idx="5"/>
            <a:endCxn id="1720" idx="0"/>
          </p:cNvCxnSpPr>
          <p:nvPr/>
        </p:nvCxnSpPr>
        <p:spPr>
          <a:xfrm>
            <a:off x="2836800" y="2519280"/>
            <a:ext cx="300600" cy="936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724" name=""/>
          <p:cNvSpPr/>
          <p:nvPr/>
        </p:nvSpPr>
        <p:spPr>
          <a:xfrm>
            <a:off x="5330880" y="1171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343480" y="1120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4127400" y="2628720"/>
            <a:ext cx="1994040" cy="285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6134040" y="2603520"/>
            <a:ext cx="457200" cy="2324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H="1">
            <a:off x="6603480" y="4025880"/>
            <a:ext cx="762120" cy="88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7378560" y="3898800"/>
            <a:ext cx="1460520" cy="13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6438960" y="1612800"/>
            <a:ext cx="939600" cy="243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H="1">
            <a:off x="6133680" y="1574640"/>
            <a:ext cx="304920" cy="102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H="1">
            <a:off x="6438600" y="4927680"/>
            <a:ext cx="152280" cy="635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419720" y="5054760"/>
            <a:ext cx="2044440" cy="318960"/>
          </a:xfrm>
          <a:custGeom>
            <a:avLst/>
            <a:gdLst/>
            <a:ahLst/>
            <a:rect l="l" t="t" r="r" b="b"/>
            <a:pathLst>
              <a:path w="1192" h="201">
                <a:moveTo>
                  <a:pt x="0" y="0"/>
                </a:moveTo>
                <a:cubicBezTo>
                  <a:pt x="212" y="75"/>
                  <a:pt x="425" y="151"/>
                  <a:pt x="624" y="176"/>
                </a:cubicBezTo>
                <a:cubicBezTo>
                  <a:pt x="823" y="201"/>
                  <a:pt x="1007" y="176"/>
                  <a:pt x="1192" y="152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165560" y="5003640"/>
            <a:ext cx="254160" cy="63720"/>
          </a:xfrm>
          <a:custGeom>
            <a:avLst/>
            <a:gdLst/>
            <a:ahLst/>
            <a:rect l="l" t="t" r="r" b="b"/>
            <a:pathLst>
              <a:path w="248" h="48">
                <a:moveTo>
                  <a:pt x="248" y="48"/>
                </a:moveTo>
                <a:cubicBezTo>
                  <a:pt x="248" y="48"/>
                  <a:pt x="124" y="24"/>
                  <a:pt x="0" y="0"/>
                </a:cubicBezTo>
              </a:path>
            </a:pathLst>
          </a:custGeom>
          <a:noFill/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127400" y="1346040"/>
            <a:ext cx="4749840" cy="4241880"/>
          </a:xfrm>
          <a:prstGeom prst="rect">
            <a:avLst/>
          </a:prstGeom>
          <a:noFill/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6438960" y="1371240"/>
            <a:ext cx="126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1003320" y="56134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1003320" y="6083280"/>
            <a:ext cx="1320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003320" y="5613480"/>
            <a:ext cx="0" cy="469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545040" y="56037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1183680" y="555948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1101600" y="4308480"/>
            <a:ext cx="279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erminate half-lines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with a bounding box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Sit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55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te the leaf representing the existing arc that is above the new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ete the potential circle event in the event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the arc by replacing the leaf node with a sub tree representing the new arc and break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new edge record in the link l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for potential circle event(s), add them to queue if they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in the corresponding leaf of T a pointer to the new circle event in the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469640" y="40384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4267080" y="2209680"/>
            <a:ext cx="914400" cy="3505320"/>
            <a:chOff x="4267080" y="2209680"/>
            <a:chExt cx="914400" cy="3505320"/>
          </a:xfrm>
        </p:grpSpPr>
        <p:sp>
          <p:nvSpPr>
            <p:cNvPr id="135" name=""/>
            <p:cNvSpPr/>
            <p:nvPr/>
          </p:nvSpPr>
          <p:spPr>
            <a:xfrm>
              <a:off x="42670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242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near sites form a series of parallel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352680" y="2209680"/>
            <a:ext cx="914400" cy="3505320"/>
            <a:chOff x="3352680" y="2209680"/>
            <a:chExt cx="914400" cy="3505320"/>
          </a:xfrm>
        </p:grpSpPr>
        <p:sp>
          <p:nvSpPr>
            <p:cNvPr id="141" name=""/>
            <p:cNvSpPr/>
            <p:nvPr/>
          </p:nvSpPr>
          <p:spPr>
            <a:xfrm>
              <a:off x="33526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098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1055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181480" y="2209680"/>
            <a:ext cx="914400" cy="3505320"/>
            <a:chOff x="5181480" y="2209680"/>
            <a:chExt cx="914400" cy="3505320"/>
          </a:xfrm>
        </p:grpSpPr>
        <p:sp>
          <p:nvSpPr>
            <p:cNvPr id="148" name=""/>
            <p:cNvSpPr/>
            <p:nvPr/>
          </p:nvSpPr>
          <p:spPr>
            <a:xfrm>
              <a:off x="51814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362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2438280" y="2209680"/>
            <a:ext cx="914400" cy="3505320"/>
            <a:chOff x="2438280" y="2209680"/>
            <a:chExt cx="914400" cy="3505320"/>
          </a:xfrm>
        </p:grpSpPr>
        <p:sp>
          <p:nvSpPr>
            <p:cNvPr id="153" name=""/>
            <p:cNvSpPr/>
            <p:nvPr/>
          </p:nvSpPr>
          <p:spPr>
            <a:xfrm>
              <a:off x="24382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8954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60199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095880" y="2209680"/>
            <a:ext cx="914400" cy="3505320"/>
            <a:chOff x="6095880" y="2209680"/>
            <a:chExt cx="914400" cy="3505320"/>
          </a:xfrm>
        </p:grpSpPr>
        <p:sp>
          <p:nvSpPr>
            <p:cNvPr id="157" name=""/>
            <p:cNvSpPr/>
            <p:nvPr/>
          </p:nvSpPr>
          <p:spPr>
            <a:xfrm>
              <a:off x="6095880" y="39625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53080" y="2209680"/>
              <a:ext cx="0" cy="3505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69343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ndling Circle Ev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621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ete from T the leaf node of the disappearing arc and its associated circle events in the even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vertex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eate new edge record in doubly link 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eck the new triplets formed by the former neighboring arcs for potential circle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6889680" y="1517760"/>
            <a:ext cx="195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ning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7240680" y="2133720"/>
            <a:ext cx="139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log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7469640" y="31240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7469640" y="37339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7469640" y="464832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(1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tal Running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new site can generate at most two new arc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ch line can have at most 2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1 ar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 most O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site and circle events in the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/Circle Event Handler O(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otal running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685800" y="13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Fortune’s Algorithm Optima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685800" y="110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sort numbers using any algorithm that constructs a Voronoi diagram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 input numbers to a position on the number line.  The resulting Voronoi diagram is doubly linked list that forms a chain of unbounded cells in the left-to-right  (sorted) ord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3" name=""/>
          <p:cNvGrpSpPr/>
          <p:nvPr/>
        </p:nvGrpSpPr>
        <p:grpSpPr>
          <a:xfrm>
            <a:off x="402840" y="2252520"/>
            <a:ext cx="7783920" cy="2320920"/>
            <a:chOff x="402840" y="2252520"/>
            <a:chExt cx="7783920" cy="2320920"/>
          </a:xfrm>
        </p:grpSpPr>
        <p:sp>
          <p:nvSpPr>
            <p:cNvPr id="1764" name=""/>
            <p:cNvSpPr/>
            <p:nvPr/>
          </p:nvSpPr>
          <p:spPr>
            <a:xfrm>
              <a:off x="46245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0766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91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66748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6602400" y="3386160"/>
              <a:ext cx="15228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2478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3224160" y="225252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34040" y="3371760"/>
              <a:ext cx="152640" cy="100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464160" y="2268360"/>
              <a:ext cx="0" cy="2305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217600" y="35496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016520" y="35496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0040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60786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577200" y="35481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247760" y="3425760"/>
              <a:ext cx="6939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02840" y="2954160"/>
              <a:ext cx="1180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umber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in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673200" y="1663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ions and Examp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erties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lexity of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tructing Voronoi diagra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unning Tim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em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Duality and degenerate ca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oronoi Diagram/Convex Hull Dua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190080" y="162576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tes sharing a half-infinite edge are convex hull vert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 flipH="1" flipV="1">
            <a:off x="4521240" y="2980800"/>
            <a:ext cx="5400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4240080" y="3833640"/>
            <a:ext cx="63720" cy="12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 flipV="1">
            <a:off x="4240080" y="3438360"/>
            <a:ext cx="311400" cy="3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 flipV="1">
            <a:off x="4645080" y="3959280"/>
            <a:ext cx="504720" cy="411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 flipV="1">
            <a:off x="5149800" y="390384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1" name=""/>
          <p:cNvGrpSpPr/>
          <p:nvPr/>
        </p:nvGrpSpPr>
        <p:grpSpPr>
          <a:xfrm>
            <a:off x="2128320" y="2293560"/>
            <a:ext cx="4162680" cy="3378240"/>
            <a:chOff x="2128320" y="2293560"/>
            <a:chExt cx="4162680" cy="3378240"/>
          </a:xfrm>
        </p:grpSpPr>
        <p:grpSp>
          <p:nvGrpSpPr>
            <p:cNvPr id="1792" name=""/>
            <p:cNvGrpSpPr/>
            <p:nvPr/>
          </p:nvGrpSpPr>
          <p:grpSpPr>
            <a:xfrm>
              <a:off x="2128320" y="2293560"/>
              <a:ext cx="4162680" cy="3378240"/>
              <a:chOff x="2128320" y="2293560"/>
              <a:chExt cx="4162680" cy="3378240"/>
            </a:xfrm>
          </p:grpSpPr>
          <p:sp>
            <p:nvSpPr>
              <p:cNvPr id="1793" name=""/>
              <p:cNvSpPr/>
              <p:nvPr/>
            </p:nvSpPr>
            <p:spPr>
              <a:xfrm>
                <a:off x="2563200" y="2696040"/>
                <a:ext cx="1118160" cy="694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3681720" y="3390840"/>
                <a:ext cx="186120" cy="37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flipH="1">
                <a:off x="2749680" y="3769560"/>
                <a:ext cx="1118160" cy="101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flipH="1">
                <a:off x="2128320" y="4780080"/>
                <a:ext cx="62100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flipV="1">
                <a:off x="2749680" y="4653720"/>
                <a:ext cx="1056240" cy="12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flipV="1">
                <a:off x="3806280" y="3958920"/>
                <a:ext cx="496800" cy="69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868200" y="3769560"/>
                <a:ext cx="372600" cy="6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4551840" y="3438000"/>
                <a:ext cx="59004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4303080" y="3958920"/>
                <a:ext cx="341640" cy="40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3806280" y="4653720"/>
                <a:ext cx="85392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flipH="1" flipV="1">
                <a:off x="4652280" y="4369320"/>
                <a:ext cx="7560" cy="52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flipV="1">
                <a:off x="4543920" y="3145680"/>
                <a:ext cx="30960" cy="29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flipV="1">
                <a:off x="3666240" y="2972160"/>
                <a:ext cx="861840" cy="40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4660200" y="4906080"/>
                <a:ext cx="457920" cy="76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157360" y="3967200"/>
                <a:ext cx="1133640" cy="9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574880" y="3161880"/>
                <a:ext cx="877680" cy="25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flipV="1">
                <a:off x="5149800" y="3414240"/>
                <a:ext cx="294840" cy="48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flipV="1">
                <a:off x="5444640" y="2940480"/>
                <a:ext cx="823320" cy="46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flipV="1">
                <a:off x="4528080" y="2293560"/>
                <a:ext cx="46440" cy="67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12" name=""/>
            <p:cNvSpPr/>
            <p:nvPr/>
          </p:nvSpPr>
          <p:spPr>
            <a:xfrm>
              <a:off x="4963680" y="50090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3" name=""/>
          <p:cNvSpPr/>
          <p:nvPr/>
        </p:nvSpPr>
        <p:spPr>
          <a:xfrm>
            <a:off x="4660560" y="466416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4" name=""/>
          <p:cNvGrpSpPr/>
          <p:nvPr/>
        </p:nvGrpSpPr>
        <p:grpSpPr>
          <a:xfrm>
            <a:off x="2739960" y="2962440"/>
            <a:ext cx="2739600" cy="1988640"/>
            <a:chOff x="2739960" y="2962440"/>
            <a:chExt cx="2739600" cy="1988640"/>
          </a:xfrm>
        </p:grpSpPr>
        <p:sp>
          <p:nvSpPr>
            <p:cNvPr id="1815" name=""/>
            <p:cNvSpPr/>
            <p:nvPr/>
          </p:nvSpPr>
          <p:spPr>
            <a:xfrm>
              <a:off x="4624560" y="48776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790800" y="46144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739960" y="47487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837600" y="373860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21720" y="380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276080" y="394488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4611600" y="4339440"/>
              <a:ext cx="7200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117760" y="395136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113440" y="38581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4512960" y="3418920"/>
              <a:ext cx="72360" cy="73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4536360" y="3134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4488480" y="296244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3639600" y="33595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407200" y="3379320"/>
              <a:ext cx="72360" cy="734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29" name=""/>
          <p:cNvSpPr/>
          <p:nvPr/>
        </p:nvSpPr>
        <p:spPr>
          <a:xfrm>
            <a:off x="3930480" y="49705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4118040" y="433872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61484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49720" y="427500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484960" y="3770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924440" y="3390840"/>
            <a:ext cx="187200" cy="1904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049720" y="3013200"/>
            <a:ext cx="18576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807000" y="4086360"/>
            <a:ext cx="185400" cy="188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3371760" y="3581280"/>
            <a:ext cx="1857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3930480" y="3328920"/>
            <a:ext cx="18756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07000" y="2949480"/>
            <a:ext cx="185400" cy="189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770640" y="513072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3464640" y="3044880"/>
            <a:ext cx="2113560" cy="2021040"/>
            <a:chOff x="3464640" y="3044880"/>
            <a:chExt cx="2113560" cy="2021040"/>
          </a:xfrm>
        </p:grpSpPr>
        <p:cxnSp>
          <p:nvCxnSpPr>
            <p:cNvPr id="1842" name=""/>
            <p:cNvCxnSpPr>
              <a:stCxn id="1833" idx="3"/>
              <a:endCxn id="1832" idx="7"/>
            </p:cNvCxnSpPr>
            <p:nvPr/>
          </p:nvCxnSpPr>
          <p:spPr>
            <a:xfrm flipH="1">
              <a:off x="5208120" y="3931920"/>
              <a:ext cx="303840" cy="37044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3" name=""/>
            <p:cNvCxnSpPr/>
            <p:nvPr/>
          </p:nvCxnSpPr>
          <p:spPr>
            <a:xfrm flipH="1" flipV="1">
              <a:off x="3464640" y="3769560"/>
              <a:ext cx="492840" cy="12279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4" name=""/>
            <p:cNvCxnSpPr/>
            <p:nvPr/>
          </p:nvCxnSpPr>
          <p:spPr>
            <a:xfrm flipV="1">
              <a:off x="3465000" y="3110760"/>
              <a:ext cx="369000" cy="47052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5" name=""/>
            <p:cNvCxnSpPr/>
            <p:nvPr/>
          </p:nvCxnSpPr>
          <p:spPr>
            <a:xfrm>
              <a:off x="3992040" y="3044880"/>
              <a:ext cx="1058040" cy="640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6" name=""/>
            <p:cNvCxnSpPr/>
            <p:nvPr/>
          </p:nvCxnSpPr>
          <p:spPr>
            <a:xfrm>
              <a:off x="5208120" y="3174840"/>
              <a:ext cx="370440" cy="59616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  <p:cxnSp>
          <p:nvCxnSpPr>
            <p:cNvPr id="1847" name=""/>
            <p:cNvCxnSpPr/>
            <p:nvPr/>
          </p:nvCxnSpPr>
          <p:spPr>
            <a:xfrm flipH="1">
              <a:off x="4117320" y="4437000"/>
              <a:ext cx="959760" cy="629280"/>
            </a:xfrm>
            <a:prstGeom prst="straightConnector1">
              <a:avLst/>
            </a:prstGeom>
            <a:ln w="38160">
              <a:solidFill>
                <a:srgbClr val="ff0000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ts in Q share the same y-coordin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dditionally sort them using x-coordin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ircle event involving more than 3 si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rrent algorithm produces multiple degree 3 Voronoi vertices joined by zero-length ed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fixed in post proces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generate Cas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te points are collinear (break points neither converge or diverg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unding box takes care of t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e of the sites coincides with the lowest point of the circle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68580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: the same algorithm applies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685800" y="1009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2719440" y="5479920"/>
            <a:ext cx="33876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1719360" y="4305240"/>
            <a:ext cx="2465280" cy="11268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165560" y="3844800"/>
            <a:ext cx="2249640" cy="49392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V="1">
            <a:off x="4208400" y="4411800"/>
            <a:ext cx="0" cy="104616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973800" y="1649520"/>
            <a:ext cx="6372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site dete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eak one of the arcs an infinitesimal dista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way from the arc’s end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685800" y="123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ite coincides with circle ev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2690640" y="6002280"/>
            <a:ext cx="3387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444840" y="2876400"/>
            <a:ext cx="735120" cy="1521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146480" y="541656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3389400" y="3443400"/>
            <a:ext cx="1555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3855960" y="3230640"/>
            <a:ext cx="157320" cy="16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3135240" y="3255840"/>
            <a:ext cx="2220840" cy="2221200"/>
          </a:xfrm>
          <a:prstGeom prst="ellipse">
            <a:avLst/>
          </a:prstGeom>
          <a:noFill/>
          <a:ln w="255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>
            <a:off x="2308320" y="4397400"/>
            <a:ext cx="1885680" cy="708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V="1">
            <a:off x="4179960" y="4181400"/>
            <a:ext cx="197460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1674720" y="4421160"/>
            <a:ext cx="2233800" cy="169920"/>
          </a:xfrm>
          <a:custGeom>
            <a:avLst/>
            <a:gdLst/>
            <a:ahLst/>
            <a:rect l="l" t="t" r="r" b="b"/>
            <a:pathLst>
              <a:path w="856" h="514">
                <a:moveTo>
                  <a:pt x="0" y="0"/>
                </a:moveTo>
                <a:cubicBezTo>
                  <a:pt x="204" y="219"/>
                  <a:pt x="409" y="438"/>
                  <a:pt x="552" y="476"/>
                </a:cubicBezTo>
                <a:cubicBezTo>
                  <a:pt x="695" y="514"/>
                  <a:pt x="775" y="371"/>
                  <a:pt x="856" y="228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4570560" y="3843360"/>
            <a:ext cx="1887480" cy="493560"/>
          </a:xfrm>
          <a:custGeom>
            <a:avLst/>
            <a:gdLst/>
            <a:ahLst/>
            <a:rect l="l" t="t" r="r" b="b"/>
            <a:pathLst>
              <a:path w="1417" h="311">
                <a:moveTo>
                  <a:pt x="0" y="311"/>
                </a:moveTo>
                <a:cubicBezTo>
                  <a:pt x="266" y="287"/>
                  <a:pt x="532" y="263"/>
                  <a:pt x="768" y="211"/>
                </a:cubicBezTo>
                <a:cubicBezTo>
                  <a:pt x="1004" y="159"/>
                  <a:pt x="1309" y="35"/>
                  <a:pt x="1417" y="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89440" y="4340160"/>
            <a:ext cx="654120" cy="1541520"/>
          </a:xfrm>
          <a:custGeom>
            <a:avLst/>
            <a:gdLst/>
            <a:ahLst/>
            <a:rect l="l" t="t" r="r" b="b"/>
            <a:pathLst>
              <a:path w="412" h="971">
                <a:moveTo>
                  <a:pt x="0" y="119"/>
                </a:moveTo>
                <a:cubicBezTo>
                  <a:pt x="71" y="545"/>
                  <a:pt x="142" y="971"/>
                  <a:pt x="211" y="951"/>
                </a:cubicBezTo>
                <a:cubicBezTo>
                  <a:pt x="280" y="931"/>
                  <a:pt x="346" y="465"/>
                  <a:pt x="412" y="0"/>
                </a:cubicBezTo>
              </a:path>
            </a:pathLst>
          </a:custGeom>
          <a:noFill/>
          <a:ln w="507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 is a useful planar subdivision of a discrete point s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oronoi diagrams have linear complexity and can be constructed in O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log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tune’s algorithm (optima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on-collinear sites form Voronoi half lines that meet at a verte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09880" y="2895480"/>
            <a:ext cx="0" cy="28195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816360" y="2901960"/>
            <a:ext cx="1993680" cy="1993680"/>
            <a:chOff x="3816360" y="2901960"/>
            <a:chExt cx="1993680" cy="1993680"/>
          </a:xfrm>
        </p:grpSpPr>
        <p:sp>
          <p:nvSpPr>
            <p:cNvPr id="166" name=""/>
            <p:cNvSpPr/>
            <p:nvPr/>
          </p:nvSpPr>
          <p:spPr>
            <a:xfrm>
              <a:off x="4800600" y="3276720"/>
              <a:ext cx="152280" cy="1522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4248720" y="3334320"/>
              <a:ext cx="646560" cy="646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16360" y="2901960"/>
              <a:ext cx="1993680" cy="19936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666880" y="1752480"/>
            <a:ext cx="6150960" cy="4757400"/>
            <a:chOff x="2666880" y="1752480"/>
            <a:chExt cx="6150960" cy="4757400"/>
          </a:xfrm>
        </p:grpSpPr>
        <p:sp>
          <p:nvSpPr>
            <p:cNvPr id="170" name=""/>
            <p:cNvSpPr/>
            <p:nvPr/>
          </p:nvSpPr>
          <p:spPr>
            <a:xfrm>
              <a:off x="2666880" y="1752480"/>
              <a:ext cx="2286000" cy="22860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64760" y="4952880"/>
              <a:ext cx="29530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Voronoi vertex is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he center of an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empty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ircle touching 3 or </a:t>
              </a:r>
              <a:br>
                <a:rPr sz="2400"/>
              </a:b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ore site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73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68200" y="2620080"/>
            <a:ext cx="4147920" cy="3770640"/>
            <a:chOff x="1168200" y="2620080"/>
            <a:chExt cx="4147920" cy="3770640"/>
          </a:xfrm>
        </p:grpSpPr>
        <p:sp>
          <p:nvSpPr>
            <p:cNvPr id="176" name=""/>
            <p:cNvSpPr/>
            <p:nvPr/>
          </p:nvSpPr>
          <p:spPr>
            <a:xfrm>
              <a:off x="1168200" y="5931000"/>
              <a:ext cx="1377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lin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77" name=""/>
            <p:cNvCxnSpPr>
              <a:stCxn id="176" idx="3"/>
            </p:cNvCxnSpPr>
            <p:nvPr/>
          </p:nvCxnSpPr>
          <p:spPr>
            <a:xfrm flipV="1">
              <a:off x="2544480" y="5320440"/>
              <a:ext cx="943560" cy="8391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8" name=""/>
            <p:cNvCxnSpPr>
              <a:stCxn id="176" idx="3"/>
            </p:cNvCxnSpPr>
            <p:nvPr/>
          </p:nvCxnSpPr>
          <p:spPr>
            <a:xfrm flipV="1">
              <a:off x="2544480" y="4711320"/>
              <a:ext cx="2772000" cy="1448640"/>
            </a:xfrm>
            <a:prstGeom prst="curvedConnector5">
              <a:avLst>
                <a:gd name="adj1" fmla="val 69190"/>
                <a:gd name="adj2" fmla="val 49987"/>
                <a:gd name="adj3" fmla="val 6919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9" name=""/>
            <p:cNvCxnSpPr/>
            <p:nvPr/>
          </p:nvCxnSpPr>
          <p:spPr>
            <a:xfrm flipH="1" flipV="1" rot="5400000">
              <a:off x="1249200" y="3915720"/>
              <a:ext cx="3513960" cy="923040"/>
            </a:xfrm>
            <a:prstGeom prst="curvedConnector5">
              <a:avLst>
                <a:gd name="adj1" fmla="val 91096"/>
                <a:gd name="adj2" fmla="val 49980"/>
                <a:gd name="adj3" fmla="val 9109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80" name=""/>
          <p:cNvSpPr/>
          <p:nvPr/>
        </p:nvSpPr>
        <p:spPr>
          <a:xfrm>
            <a:off x="378360" y="3546360"/>
            <a:ext cx="172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rtex ha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gree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oronoi Cells and Segmen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767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191120" y="388620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352680" y="39625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2895480"/>
            <a:ext cx="0" cy="21337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327672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4248720" y="3334320"/>
            <a:ext cx="646560" cy="646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429000" y="1981080"/>
            <a:ext cx="835200" cy="1034640"/>
            <a:chOff x="3429000" y="1981080"/>
            <a:chExt cx="835200" cy="1034640"/>
          </a:xfrm>
        </p:grpSpPr>
        <p:sp>
          <p:nvSpPr>
            <p:cNvPr id="189" name=""/>
            <p:cNvSpPr/>
            <p:nvPr/>
          </p:nvSpPr>
          <p:spPr>
            <a:xfrm flipH="1" flipV="1">
              <a:off x="3429000" y="1981080"/>
              <a:ext cx="380880" cy="914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947760" y="2556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809880" y="2895480"/>
            <a:ext cx="1067040" cy="106704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4T03:21:10Z</dcterms:created>
  <dc:creator>MIT</dc:creator>
  <dc:description/>
  <dc:language>en-US</dc:language>
  <cp:lastModifiedBy>MIT</cp:lastModifiedBy>
  <dcterms:modified xsi:type="dcterms:W3CDTF">2001-09-28T01:14:56Z</dcterms:modified>
  <cp:revision>389</cp:revision>
  <dc:subject/>
  <dc:title>Voronoi Diagrams</dc:title>
</cp:coreProperties>
</file>